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593-F87F-4FE9-9E3C-F3CEA55A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D82-B8FA-414D-8C24-D4939A5B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D7F-EC0B-46D8-9D24-447AF092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C0A-9A85-4C9A-A451-89D3C3E7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7A7-D072-40B0-9A69-12F5E5CB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F120-22D3-4D42-A7F6-0C3F200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08C5-CF17-4712-946F-CDF9ACA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092-10C9-436A-80AA-7BCECEC9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D2A0-7BD6-4652-BD6F-1AF7933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4224-E25D-40B7-A9FC-29B2CF4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522-4F03-4AF8-9080-695B864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D41-9EC7-42F0-939F-9089D296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E67F-EB06-42FA-A6B8-1A71AF1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069-5AD8-4C27-9297-8877D59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1721-E740-4825-8771-7652BA1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7208-0324-4B34-A844-D65561E8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19E3-C830-4C8A-B57E-290B7FC3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626-A3A5-43BF-8793-FBC91AE2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6B6-39CD-49F9-8304-00FF842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851-4F8F-4EBA-8FA6-1867763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077-31E4-411B-9C87-AA5380E2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BAC-B988-4CAA-9381-ACA2644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DDC-0681-408A-A5FD-F2A3AE1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CA8-F28E-48B7-B297-975A185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ED9F-89E0-4C54-B6A8-BE715A6FD3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4DCB-5A50-462C-B73F-DE921DAB84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92144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Шифрование открытым ключ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хема открытого шифр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Рисунок 1" descr=" Схема открытого шифрования"/>
          <p:cNvPicPr/>
          <p:nvPr/>
        </p:nvPicPr>
        <p:blipFill>
          <a:blip r:embed="rId1"/>
          <a:stretch/>
        </p:blipFill>
        <p:spPr>
          <a:xfrm>
            <a:off x="1619280" y="2060640"/>
            <a:ext cx="698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-4605480" y="433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3" descr=" Первый вариант схемы создания и проверки цифровой подписи"/>
          <p:cNvPicPr/>
          <p:nvPr/>
        </p:nvPicPr>
        <p:blipFill>
          <a:blip r:embed="rId1"/>
          <a:stretch/>
        </p:blipFill>
        <p:spPr>
          <a:xfrm>
            <a:off x="1835280" y="1844640"/>
            <a:ext cx="6913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4" descr=" Второй вариант схемы создания и проверки цифровой подписи"/>
          <p:cNvPicPr/>
          <p:nvPr/>
        </p:nvPicPr>
        <p:blipFill>
          <a:blip r:embed="rId1"/>
          <a:stretch/>
        </p:blipFill>
        <p:spPr>
          <a:xfrm>
            <a:off x="1332000" y="1628640"/>
            <a:ext cx="7416720" cy="4464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7" descr=" Схема формирования общего секретного ключа"/>
          <p:cNvPicPr/>
          <p:nvPr/>
        </p:nvPicPr>
        <p:blipFill>
          <a:blip r:embed="rId1"/>
          <a:stretch/>
        </p:blipFill>
        <p:spPr>
          <a:xfrm>
            <a:off x="1258920" y="1628640"/>
            <a:ext cx="7489800" cy="460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116000" y="47628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хема формирования общего секретного ключ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Электронная подпись на основе алгоритма RS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drawingml/2006/table">
            <a:tbl>
              <a:tblPr/>
              <a:tblGrid>
                <a:gridCol w="2349720"/>
                <a:gridCol w="2633400"/>
                <a:gridCol w="2560680"/>
              </a:tblGrid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ый клю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рытый клю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ьзователь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d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ьзователь 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d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Алгоритм шифр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337400" y="7639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начала пользователь А вычисляет чис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1" descr="c_i=m_i^{e_A} \: mod \:N_A"/>
          <p:cNvPicPr/>
          <p:nvPr/>
        </p:nvPicPr>
        <p:blipFill>
          <a:blip r:embed="rId1"/>
          <a:stretch/>
        </p:blipFill>
        <p:spPr>
          <a:xfrm>
            <a:off x="5472000" y="1341360"/>
            <a:ext cx="3672000" cy="576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1345320" y="1987920"/>
            <a:ext cx="60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тем пользователь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ычисляет числ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Рисунок 2" descr="g_i=c_i^{d_Б} \: mod \: N_Б"/>
          <p:cNvPicPr/>
          <p:nvPr/>
        </p:nvPicPr>
        <p:blipFill>
          <a:blip r:embed="rId2"/>
          <a:stretch/>
        </p:blipFill>
        <p:spPr>
          <a:xfrm>
            <a:off x="5580000" y="2565360"/>
            <a:ext cx="33116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81720" y="3283560"/>
            <a:ext cx="94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следовательность чисел gi передается к пользователю 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5440" y="407520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льзователь Б получает gi и вначале вычисля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 числ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3" descr="c_i=g_i^{e_Б} \: mod \: N_Б"/>
          <p:cNvPicPr/>
          <p:nvPr/>
        </p:nvPicPr>
        <p:blipFill>
          <a:blip r:embed="rId3"/>
          <a:stretch/>
        </p:blipFill>
        <p:spPr>
          <a:xfrm>
            <a:off x="5724360" y="4797360"/>
            <a:ext cx="3168720" cy="576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476280" y="522828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Затем Б определяет числ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4" descr="m_i=c_i^{d_A} \: mod \: N_A&#13;&#10;"/>
          <p:cNvPicPr/>
          <p:nvPr/>
        </p:nvPicPr>
        <p:blipFill>
          <a:blip r:embed="rId4"/>
          <a:stretch/>
        </p:blipFill>
        <p:spPr>
          <a:xfrm>
            <a:off x="5796000" y="5661000"/>
            <a:ext cx="3097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ая подпись на основе алгоритма Эль-Гамал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Rectangle 464"/>
          <p:cNvSpPr/>
          <p:nvPr/>
        </p:nvSpPr>
        <p:spPr>
          <a:xfrm>
            <a:off x="1330920" y="1381680"/>
            <a:ext cx="77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пользователь выбирает случайное секретное число 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но простое с Р-1, и вычисляет числ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6" descr="a=A^k \: mod \: P"/>
          <p:cNvPicPr/>
          <p:nvPr/>
        </p:nvPicPr>
        <p:blipFill>
          <a:blip r:embed="rId1"/>
          <a:stretch/>
        </p:blipFill>
        <p:spPr>
          <a:xfrm>
            <a:off x="5940360" y="2205000"/>
            <a:ext cx="3024360" cy="503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66"/>
          <p:cNvSpPr/>
          <p:nvPr/>
        </p:nvSpPr>
        <p:spPr>
          <a:xfrm>
            <a:off x="311760" y="2851560"/>
            <a:ext cx="796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тем с помощью расширенного алгоритма Евклида необход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значение b в следующем уравнен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= (X1 * a +k * b) mod (P-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 чисел (a, b) будет цифровой подписью сообщения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67"/>
          <p:cNvSpPr/>
          <p:nvPr/>
        </p:nvSpPr>
        <p:spPr>
          <a:xfrm>
            <a:off x="330840" y="4291560"/>
            <a:ext cx="84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ение m вместе с подписью (a, b) отправляется пользователю 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69"/>
          <p:cNvSpPr/>
          <p:nvPr/>
        </p:nvSpPr>
        <p:spPr>
          <a:xfrm>
            <a:off x="313560" y="4696200"/>
            <a:ext cx="90820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льзователь 2 получает сообщение m и с использованием откры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а первого абонента Y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числяет два числа по следующим формула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Рисунок 7" descr="c_1=Y_1^a \times a^b \: mod \: P \\ c_2=A^m \: mod \: P "/>
          <p:cNvPicPr/>
          <p:nvPr/>
        </p:nvPicPr>
        <p:blipFill>
          <a:blip r:embed="rId2"/>
          <a:stretch/>
        </p:blipFill>
        <p:spPr>
          <a:xfrm>
            <a:off x="2050920" y="5445000"/>
            <a:ext cx="4105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04:53Z</dcterms:created>
  <dc:creator>User</dc:creator>
  <dc:description/>
  <dc:language>en-US</dc:language>
  <cp:lastModifiedBy>Левченков Александр</cp:lastModifiedBy>
  <dcterms:modified xsi:type="dcterms:W3CDTF">2019-03-15T06:36:31Z</dcterms:modified>
  <cp:revision>20</cp:revision>
  <dc:subject/>
  <dc:title>Основы и методы защиты информации </dc:title>
</cp:coreProperties>
</file>