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E09-0DF5-4CEF-8CA1-A51BE85A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B37-4EE1-4E3A-BCCB-1DD51E22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93C-A545-4E92-AD7C-538C3609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8DC-644D-4543-9443-5590B0F9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CDF7-BE0D-4C3D-97E6-4F5C94DD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41BE-481E-4557-A0BD-E3248F20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BEAB-2058-4520-992F-EC2FE637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761A-F7D6-4281-85B1-521618C5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7E26-31FF-4DBC-956C-B568497F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1E78-399A-4A78-B231-25ABF884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010C-429E-43D0-A774-CEA9F547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1C2-84EC-4201-AA5E-59C1D0B0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A38E-DB33-4F71-87B0-5464C4A6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33A1-3C84-45E2-B25B-7B66A15F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2B4C-3CA5-41D5-8B01-57DD2C29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85E7-6113-459C-828F-A617CDAD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C36C-5F0C-435F-9BEA-15A54BD7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B3C-4F02-4412-9D30-B3C5B0D7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682-5561-4CB1-A820-F6C1D2D9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9E0-3FBD-4433-BCCA-0D5470E7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BDC-D674-4D10-A2E4-6D4BD4C9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503-B485-4925-A3DE-727DCD25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754-7B76-41AB-9D91-736ED2FB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578-0779-4910-B1D2-89EDBE03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27D8-5641-4C86-A3BD-6FA7D22AEE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9A52-FAD8-4E77-82DB-1CE697B359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921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Алгоритмы шифр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DES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E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Шифрование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1" name="Рисунок 1" descr=" Общая схема DES"/>
          <p:cNvPicPr/>
          <p:nvPr/>
        </p:nvPicPr>
        <p:blipFill>
          <a:blip r:embed="rId1"/>
          <a:stretch/>
        </p:blipFill>
        <p:spPr>
          <a:xfrm>
            <a:off x="1547640" y="981000"/>
            <a:ext cx="734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4572000" y="4183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Структура одного раунда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2" descr=" Структура одного раунда DES"/>
          <p:cNvPicPr/>
          <p:nvPr/>
        </p:nvPicPr>
        <p:blipFill>
          <a:blip r:embed="rId1"/>
          <a:stretch/>
        </p:blipFill>
        <p:spPr>
          <a:xfrm>
            <a:off x="1763640" y="981000"/>
            <a:ext cx="70930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54520" y="188640"/>
            <a:ext cx="498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вухкратный DES и ата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"встреча посередине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126720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E=f(f(M,K1),K2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562120" y="205956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=f-1(f-1(E,K2),K1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486160" y="278028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X=f(M,K1)=f-1(E,K2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955400" y="342828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рехкратный 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5" descr=" Шифрование тройным DES с двумя ключами"/>
          <p:cNvPicPr/>
          <p:nvPr/>
        </p:nvPicPr>
        <p:blipFill>
          <a:blip r:embed="rId1"/>
          <a:stretch/>
        </p:blipFill>
        <p:spPr>
          <a:xfrm>
            <a:off x="611280" y="4292640"/>
            <a:ext cx="8281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116000" y="333360"/>
            <a:ext cx="7543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Алгоритм криптографического преобразования данных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ГОСТ 28147-89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Рисунок 1" descr=" Структура одного раунда ГОСТ 28147-89"/>
          <p:cNvPicPr/>
          <p:nvPr/>
        </p:nvPicPr>
        <p:blipFill>
          <a:blip r:embed="rId1"/>
          <a:stretch/>
        </p:blipFill>
        <p:spPr>
          <a:xfrm>
            <a:off x="1763640" y="1484280"/>
            <a:ext cx="6782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Процедуры шифрования и дешиф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943280" y="1327320"/>
          <a:ext cx="6228720" cy="4838040"/>
        </p:xfrm>
        <a:graphic>
          <a:graphicData uri="http://schemas.openxmlformats.org/drawingml/2006/table">
            <a:tbl>
              <a:tblPr/>
              <a:tblGrid>
                <a:gridCol w="1370160"/>
                <a:gridCol w="607680"/>
                <a:gridCol w="606960"/>
                <a:gridCol w="607320"/>
                <a:gridCol w="607680"/>
                <a:gridCol w="606960"/>
                <a:gridCol w="607320"/>
                <a:gridCol w="607680"/>
                <a:gridCol w="606960"/>
              </a:tblGrid>
              <a:tr h="65628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аблица 5.1. Последовательность использования подключей при шифрова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ун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клю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7944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ун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клю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8016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ун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клю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7980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ун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клю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Алгоритмы табличной подстанов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97160" y="1297080"/>
          <a:ext cx="7422480" cy="4939920"/>
        </p:xfrm>
        <a:graphic>
          <a:graphicData uri="http://schemas.openxmlformats.org/drawingml/2006/table">
            <a:tbl>
              <a:tblPr/>
              <a:tblGrid>
                <a:gridCol w="1634400"/>
                <a:gridCol w="723240"/>
                <a:gridCol w="723600"/>
                <a:gridCol w="723600"/>
                <a:gridCol w="723600"/>
                <a:gridCol w="723240"/>
                <a:gridCol w="723600"/>
                <a:gridCol w="723600"/>
                <a:gridCol w="723600"/>
              </a:tblGrid>
              <a:tr h="6710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аблица 5.2. Последовательность использования подключей при расшифрова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ун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клю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8844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ун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клю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8772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ун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клю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8772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ун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клю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7:04:53Z</dcterms:created>
  <dc:creator>User</dc:creator>
  <dc:description/>
  <dc:language>en-US</dc:language>
  <cp:lastModifiedBy>Александр Николаевич</cp:lastModifiedBy>
  <dcterms:modified xsi:type="dcterms:W3CDTF">2017-05-16T06:55:06Z</dcterms:modified>
  <cp:revision>26</cp:revision>
  <dc:subject/>
  <dc:title>Основы и методы защиты информации </dc:title>
</cp:coreProperties>
</file>