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419C3-9D15-407D-B885-4EDD15D2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D867-7E07-40A6-8378-1929BC23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6B13-90C4-4A4E-BD40-3ACA3A8F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1561-EC7E-42CF-9521-B4DE3AA8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D972-4367-4AD8-836E-911CCC71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210E-C3AD-42BA-9328-5EB85739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052E-FB40-4541-9462-49796BE1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30B0-8954-4ECD-BF6A-D57ED816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C47D-EDAA-4F27-B744-38FB9D9D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CE32-1FF1-4F31-88A3-3BB59EE2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2DAA-9F59-43F4-AC0F-41C50BA7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D7EC-D86B-43E7-853E-F4A0ED82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90B8-FF36-4166-A8F1-60BA0E8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9765-FB04-42C7-9CD3-104734B3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A5F4-60F0-4B61-A32D-186E55DE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7D99-2074-4F81-8A9D-A1F32605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CDBA-B870-4C6E-89A3-D0028457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E6AE-7DD0-404F-BD5D-FE4C2C6B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2270C-BE6E-41FE-B3C6-F4D1CC16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92B5-4871-46A4-8E07-291DDF37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3F23-622C-4107-9267-0DC72602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83B3-516E-4609-A4CE-2A6F70E1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9568-1283-4E70-AD9B-5EB3727A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0CEB-A4F7-42DF-A7A4-930FF23E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22C8-AA95-4680-B7BF-1C2764AD83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1E69-2A89-4BF7-BAD3-ADBA601002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Информационная безопасность и защита информации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аиболее распространенные угроз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Вредоносное П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ни вредоносного П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доносная функц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 распрост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ее предста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50920" y="4292280"/>
            <a:ext cx="8496360" cy="947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ь, осуществляющую разрушительную функцию будем называть «бомбой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Восьмиугольник 6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20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6785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ействия бомбы (обычные)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ения другого вредоносного П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я контроля над вредоносной систем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грессивного потребления ресур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я или разрушения программ и/или дан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Восьмиугольник 5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о механизму распространения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русы – код, обладающий, способностью к распространению путем внедрения в другие програм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ви – код, способный самостоятельно, т.е. без внедрения в другие программы, вызывать распространение своих копий по ИС и их выполн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Восьмиугольник 5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кно опасности вредоносного П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95280" y="2759040"/>
            <a:ext cx="8353440" cy="1343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но опас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ля вредоносного ПО появляется с выпуском новой разновидности  бомб, вирусов и/или червей и перестает существовать с обновлением антивирусных программ и наложением других необходимых запла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Восьмиугольник 5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ассивные и активные объект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ссивные объекты уходят в прошлое; так называемое активное содержание становится норм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ация разных сервисов, наличие среди них сетевых, всеобщая связность многократно увеличивают потенциал для атак на доступность облегчают распространение вредоносного П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Восьмиугольник 5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Угрозы целостност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лью нарушения статической целостности злоумышленник мож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вести неверные данны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ить данны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908000" y="4221000"/>
            <a:ext cx="5185080" cy="1295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96 год: Файл против Фай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93360" y="4796640"/>
            <a:ext cx="82335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нарушена конфиденциальность, может пострадать целост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Восьмиугольник 7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Угрозы целостност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нет средств обеспечить «неотказуемость», компьютерные данные не могут рассматриваться как доказатель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нциально уязвимые с точки зрения нарушения целостности не только данные, но и програм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озами динамической целостности являются нарушение атомарной транзакции, переупорядочение, кража, дублирование или внесение дополнительных сообщ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Восьмиугольник 5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Угрозы конфиденциальност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701064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фиденциальную информацию можно разделить 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метн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жебну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Восьмиугольник 5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280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Угрозы конфиденциальност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игодности парольной си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мещение данных в среде, где им не обеспечена необходимая защи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вата данны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тав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ение данных на резервных носителя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ажа оборуд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морально-психологического воз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лоупотребление полномоч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рвисное обслужи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Восьмиугольник 5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2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080" y="4557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сновные определения и критерии классификации угроз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137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та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это попытка реализации угро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умышленни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некто, предпринимающий попытку реализации угроз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чником угрозы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ывают потенциальных злоумышлен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ном опасност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ывается промежуток времени от момента, когда появляется возможность использовать слабое место, и до момента, когда пробел безопасности ликвидиру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95280" y="2204640"/>
            <a:ext cx="8172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гроз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это потенциальная возможность определенным образом нарушить информационную безопас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Восьмиугольник 2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ля устранения окна опасности необходимо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 стать известно о средствах использования пробела в защит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ы быть выпущены соответствующие запла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латы должны быть установлены в защищаемой И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Восьмиугольник 5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Виды классификации угроз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аспекту информационной безопаснос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компонентам информационных систем, на которые угрозы нацеле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способу осуществ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асположению источника угроз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Восьмиугольник 5"/>
          <p:cNvSpPr/>
          <p:nvPr/>
        </p:nvSpPr>
        <p:spPr>
          <a:xfrm>
            <a:off x="8101080" y="449280"/>
            <a:ext cx="934920" cy="863640"/>
          </a:xfrm>
          <a:prstGeom prst="octagon">
            <a:avLst>
              <a:gd name="adj" fmla="val 31722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Угрозы доступност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аз пользовател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нутренний отказ информационной систем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аз поддерживающей инфраструктур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ычно применительно к пользователям рассматриваются следующие угроз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желание работать с информационной системой)\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возможность работы с системой в следствие отсутствия соответствующей подготов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возможность работы с системой в силу отсутствия технической поддерж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новными источниками внутренних отказов являю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тупление (случайное или умышленное) от  установленных правил эксплуата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ход системы из штатного режима эксплуатации в силу случайных или преднамеренных действий пользователей или обслуживающего персонал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шибки при переконфигурировании систем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азы программного и аппаратного обеспеч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рушение данных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рушение или повреждение аппаратур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отношению к поддерживающей инфраструктуре рекомендуется рассматривать следующие угроз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рушение работы (случайное или умышленное) систем связи, электропитания, водо- и/или теплоснабжения, кондиционир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рушение или повреждение помещен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возможность или нежелание обслуживающего персонала и/или пользователей выполнять свои обязанности 9гражданские беспорядки, тер. Акт и пр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1280" y="5732280"/>
            <a:ext cx="777852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ы и наводнения не приносят столько бед, сколько небрежность и безграмотност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Восьмиугольник 6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Угрозы доступности. 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биженные сотрудник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ртить оборуд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троить логическую бомбу, которая со временем разрушит программы или данны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лить данны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осьмиугольник 5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5700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римеры угроз доступност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грозы безопасности могут выглядеть грубо как разрушение или повреждение оборуд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ринципе, мощный кратковременный импульс, способный разрушить данные на магнитных носителей, можно сгенерировать и искусственным способом – с помощью так называемых высокоэнергетических радиочастотных пуш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йствительно опасны протески водопровода и отопительной сист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том, в сильную жару могут выйти из строя кондиционеры в серверных зал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брежность хранения архивных данн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Восьмиугольник 5"/>
          <p:cNvSpPr/>
          <p:nvPr/>
        </p:nvSpPr>
        <p:spPr>
          <a:xfrm>
            <a:off x="8101080" y="38880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рограммные атаки на доступност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честве средств вывода системы из штатного режима эксплуатации может использоваться агрессивное потребление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сы пропускания се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числительные возможности процесс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ая памя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Восьмиугольник 5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Угрозы доступност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403280" y="1989000"/>
            <a:ext cx="7488360" cy="1191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жно!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имеет место архитектурный просчет в виде разбалансированности между пропускной способностью сети и производительности сервера, то защититься от распределенных атак на доступность крайне трудно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Восьмиугольник 5"/>
          <p:cNvSpPr/>
          <p:nvPr/>
        </p:nvSpPr>
        <p:spPr>
          <a:xfrm>
            <a:off x="8101080" y="549360"/>
            <a:ext cx="934920" cy="863640"/>
          </a:xfrm>
          <a:prstGeom prst="octagon">
            <a:avLst>
              <a:gd name="adj" fmla="val 29287"/>
            </a:avLst>
          </a:prstGeom>
          <a:solidFill>
            <a:srgbClr val="0078f0"/>
          </a:solidFill>
          <a:ln w="1260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08:05:30Z</dcterms:created>
  <dc:creator>Андрей</dc:creator>
  <dc:description/>
  <dc:language>en-US</dc:language>
  <cp:lastModifiedBy>Левченков Александр</cp:lastModifiedBy>
  <dcterms:modified xsi:type="dcterms:W3CDTF">2022-09-19T10:53:30Z</dcterms:modified>
  <cp:revision>11</cp:revision>
  <dc:subject/>
  <dc:title>Информационная безопасность и защита информации</dc:title>
</cp:coreProperties>
</file>