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A37E4-298B-491D-912E-56D900AA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7805-00DB-424D-8710-4FBB9D37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B7E0-B0D5-4AB0-B738-5EF798AC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726F-81BC-4D5C-B5D2-466E5285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300A-E65E-4450-B6B9-E47D9530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4196-5100-43D5-A968-99D96177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4919-4F04-4403-B4B2-05E4F1D5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C0A6-0F32-44C0-A971-54E3D583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E2D7-25B3-4BF8-8E20-14040D68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E003-ED57-4136-81A6-0B878454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05F4-B627-4A49-A297-6C6D6F58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6519-F8C0-4276-832E-EEF4383E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82E6-D8C3-45EC-B058-F6B81E47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C506-FE30-48EC-BC5F-33664252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4560-3C14-4D05-8FF7-9611FBEF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CCBB-E87D-4456-8957-DD06B20F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3656-98B8-4E89-B639-CC8193E0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97FE-0997-45EA-A24D-ABBBED5C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F032-F5F5-48D7-80CD-01F381B5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5369-2074-4392-9221-F9013B2F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8986-D96D-4BA6-B97D-960CF58B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F6A3-11DC-4202-BF15-A9AAF85B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FE42-F98F-4FD1-9452-FBDF9A93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5C78-8990-4B0D-AC98-CCEA4AD1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A5AD-FF94-4D26-A2E8-4651E76E4F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A556-1857-404A-BDB6-C105F50610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1280" y="134136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птограф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нятия 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едмет и задачи криптографии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Криптографические атак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ссив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така - противник не имеет возможности изменять передаваемые со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така -  противник имеет возможность модифицировать передаваемые сообщения и даже добавлять свои сообщ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птографические проток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птографический протоко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то такая процедура взаимодействия двух или более абонентов с использованием криптографических средств, в результате которой абоненты достигают своей цели, а их противники - не достигаю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токолы конфиденциальной передачи сооб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токолы аутентификации и идент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токолы распределения ключ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токолы электронной цифровой подпис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токолы обеспечения неотслеживаем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Методы защиты секретных сведени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ческая защит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еганографическая защи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риптографическая защи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феры применения криптограф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ифрование данных при передаче по открытым каналам связ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служивание банковских пластиковых кар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ранение и обработка паролей пользователей в се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дача бухгалтерских и иных отчетов через удаленные каналы связ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ковское обслуживание предприятий через локальную или глобальную се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опасное от несанкционированного доступа хранение данных на жестком диске компьюте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Задачи криптограф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бственно шифрование данных с целью защиты от несанкционированного доступ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рка подлинности сообщений: получатель сообщения может проверить его источни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рка целостности передаваемых данных: получатель может проверить, не было ли сообщение изменено или подменено в процессе пересыл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спечение невозможности отказа, то есть невозможности как для получателя, так и для отправителя отказаться от факта передач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сновные определе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иф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овокупность заранее оговоренных способов преобразования исходного секретного сообщения с целью его защи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любой знак, в том числе буква, цифра или знак препин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фави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конечное множество используемых для кодирования информации символ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фрованное сообщение-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общение, полученное после преобразования с использованием любого шиф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сновные определе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иф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преобразование открытого текста в криптограм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шифрование (расшифрование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обратное действие шифров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ю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информация, необходимая для шифрования и дешифрования (расшифрования) сообщ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ифрсисте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– это любая система, которую можно использовать для обратимого изменения текста сообщения с целью сделать его непонятным для всех, кроме тех, кому оно предназначен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птографическая система защиты 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система защиты информации, в которой используются криптографические методы для шифрования данны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сновные определе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птостойк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характеристика шифра, определяющая его стойкость к дешифрованию без знания ключа (т.е. способность противостоять криптоанализу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ифрование с закрытым ключ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шифрование с секретным ключом или симметричное шифрование) использует один и тот же ключ, который обе стороны стараются хранить в секрете от противни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сновные определени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ифрование с открытым ключ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асимметричное шифрование) использует два разных ключа. При этом один из ключей (открытый ключ) может передаваться по открытому (незащищенному) каналу связ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лектронная (цифровая) подпись 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бычно присоединяемый к сообщению блок данных, полученный с использованием криптографического преобразования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Требования к криптографическим системам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шифрованное сообщение должно поддаваться чтению только при наличии ключ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ние алгоритма шифрования не должно влиять на надежность защи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й ключ из множества возможных должен обеспечивать надежную защиту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 шифрования должен допускать как программную, так и аппаратную реализ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 Николаевич</cp:lastModifiedBy>
  <dcterms:modified xsi:type="dcterms:W3CDTF">2017-03-17T07:56:56Z</dcterms:modified>
  <cp:revision>13</cp:revision>
  <dc:subject/>
  <dc:title>PowerPoint Presentation</dc:title>
</cp:coreProperties>
</file>