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484-C93D-4C09-A249-A3151066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3EA-D024-4E64-9574-7D035E8D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3A2-0263-4660-911B-AE881284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862-F1C6-4409-8FDB-82FDE716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C9E2-A1AF-4B8E-8377-F30BBD9C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3D2B-E60F-4A74-8410-0D8CF2F0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D26D-CE1E-4D2E-93B5-AD30B140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5863-43F5-4FD2-9EB2-D0310C66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8355-B39A-4036-A3BE-D4589E7A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7FAC-351D-4E03-BBFE-56175DFB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C516-11FF-4BC5-A378-88F020F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B0A-14C3-42A9-ACCB-6E584A9E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AE7A-63C9-4E90-8381-08A0BBDF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D119-DA84-4755-93B6-9CEFED97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51C4-BC4E-48E5-A582-A295A4BA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0BD3-29D7-45FC-A335-2C717D58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02C6-C05A-4D6E-ADCB-B1BFD984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7DE-CFAE-41BB-8CD0-38C55A2C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F74-8EAD-4A64-8927-373BCF7B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7F7-FF53-4736-829F-4EFD3BF3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82C-F1F8-4F88-9311-110BD121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6C0-19A5-475C-A34C-2BD0F9C4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91D-571E-415B-85BE-3EFEBDE8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D1A-1FDB-4D82-9B8B-A39726CF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2070-069F-4762-B2F0-77B02EB2B8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3119-7824-4800-94CF-1C5FCCCFCC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360" y="2997360"/>
            <a:ext cx="792144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Шифрование открытым ключ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тандарт ЭЦП ГОСТ Р34.10-9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700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начале, так же как и по стандарту DSS, для группы абонентов выбираются три общих (несекретных) параметра р, q и a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араметр р должен быть простым числом длиной от 512 до 1024 бит. Старший бит в р должен быть равен единиц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q – простое число длиной 254-256 бит; так же как и в DSA, q должно быть делителем числа (р-1). Старший бит в q должен быть равен единиц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число а, удовлетворяющее неравенству 1 &lt; a &lt; p-1 и являющееся корнем уравнения 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q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mod p = 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тем каждый пользователь может сформировать закрытый и открытый ключи. В качестве закрытого ключа выбирается произвольное число х, 0 &lt; x &lt; q. Открытым ключом является число y, получаемое по формул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y = а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mod 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ля создания каждой новой подписи каждый раз выбирается новое случайное число k, 0 &lt; k &lt; q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дпись сообщения m состоит из двух чисел (r, s), вычисляемых по следующим формулам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 = (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mod p) mod q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 = (k * H(m) + x * r) mod q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де H(m) – результат вычисления хеш-функции для сообщения 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Схема открытого шифр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Рисунок 1" descr=" Схема открытого шифрования"/>
          <p:cNvPicPr/>
          <p:nvPr/>
        </p:nvPicPr>
        <p:blipFill>
          <a:blip r:embed="rId1"/>
          <a:stretch/>
        </p:blipFill>
        <p:spPr>
          <a:xfrm>
            <a:off x="1619280" y="2060640"/>
            <a:ext cx="698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хема создания и проверки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цифровой подписи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-4605480" y="433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3" descr=" Первый вариант схемы создания и проверки цифровой подписи"/>
          <p:cNvPicPr/>
          <p:nvPr/>
        </p:nvPicPr>
        <p:blipFill>
          <a:blip r:embed="rId1"/>
          <a:stretch/>
        </p:blipFill>
        <p:spPr>
          <a:xfrm>
            <a:off x="1835280" y="1844640"/>
            <a:ext cx="6913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хема создания и проверки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цифровой подписи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4" descr=" Второй вариант схемы создания и проверки цифровой подписи"/>
          <p:cNvPicPr/>
          <p:nvPr/>
        </p:nvPicPr>
        <p:blipFill>
          <a:blip r:embed="rId1"/>
          <a:stretch/>
        </p:blipFill>
        <p:spPr>
          <a:xfrm>
            <a:off x="1332000" y="1628640"/>
            <a:ext cx="7416720" cy="4464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хема создания и проверки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цифровой подписи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хема создания и проверки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цифровой подписи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7" descr=" Схема формирования общего секретного ключа"/>
          <p:cNvPicPr/>
          <p:nvPr/>
        </p:nvPicPr>
        <p:blipFill>
          <a:blip r:embed="rId1"/>
          <a:stretch/>
        </p:blipFill>
        <p:spPr>
          <a:xfrm>
            <a:off x="1258920" y="1628640"/>
            <a:ext cx="7489800" cy="4608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116000" y="47628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Схема формирования общего секретного ключ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Электронная подпись на основе алгоритма RS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1981080"/>
          <a:ext cx="7543800" cy="4114800"/>
        </p:xfrm>
        <a:graphic>
          <a:graphicData uri="http://schemas.openxmlformats.org/drawingml/2006/table">
            <a:tbl>
              <a:tblPr/>
              <a:tblGrid>
                <a:gridCol w="2349720"/>
                <a:gridCol w="2633400"/>
                <a:gridCol w="2560680"/>
              </a:tblGrid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крытый клю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крытый клю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льзователь 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d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льзователь 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d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Алгоритм шифр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337400" y="76392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начала пользователь А вычисляет чис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Рисунок 1" descr="c_i=m_i^{e_A} \: mod \:N_A"/>
          <p:cNvPicPr/>
          <p:nvPr/>
        </p:nvPicPr>
        <p:blipFill>
          <a:blip r:embed="rId1"/>
          <a:stretch/>
        </p:blipFill>
        <p:spPr>
          <a:xfrm>
            <a:off x="5472000" y="1341360"/>
            <a:ext cx="3672000" cy="576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1345320" y="1987920"/>
            <a:ext cx="60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атем пользователь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вычисляет числ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Рисунок 2" descr="g_i=c_i^{d_Б} \: mod \: N_Б"/>
          <p:cNvPicPr/>
          <p:nvPr/>
        </p:nvPicPr>
        <p:blipFill>
          <a:blip r:embed="rId2"/>
          <a:stretch/>
        </p:blipFill>
        <p:spPr>
          <a:xfrm>
            <a:off x="5580000" y="2565360"/>
            <a:ext cx="331164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81720" y="3283560"/>
            <a:ext cx="94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следовательность чисел gi передается к пользователю 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55440" y="407520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льзователь Б получает gi и вначале вычисля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овательно числ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3" descr="c_i=g_i^{e_Б} \: mod \: N_Б"/>
          <p:cNvPicPr/>
          <p:nvPr/>
        </p:nvPicPr>
        <p:blipFill>
          <a:blip r:embed="rId3"/>
          <a:stretch/>
        </p:blipFill>
        <p:spPr>
          <a:xfrm>
            <a:off x="5724360" y="4797360"/>
            <a:ext cx="3168720" cy="576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3"/>
          <p:cNvSpPr/>
          <p:nvPr/>
        </p:nvSpPr>
        <p:spPr>
          <a:xfrm>
            <a:off x="476280" y="5228280"/>
            <a:ext cx="41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Затем Б определяет числ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4" descr="m_i=c_i^{d_A} \: mod \: N_A&#13;&#10;"/>
          <p:cNvPicPr/>
          <p:nvPr/>
        </p:nvPicPr>
        <p:blipFill>
          <a:blip r:embed="rId4"/>
          <a:stretch/>
        </p:blipFill>
        <p:spPr>
          <a:xfrm>
            <a:off x="5796000" y="5661000"/>
            <a:ext cx="3097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Цифровая подпись на основе алгоритма Эль-Гамал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Rectangle 464"/>
          <p:cNvSpPr/>
          <p:nvPr/>
        </p:nvSpPr>
        <p:spPr>
          <a:xfrm>
            <a:off x="1330920" y="1381680"/>
            <a:ext cx="77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пользователь выбирает случайное секретное число 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но простое с Р-1, и вычисляет числ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6" descr="a=A^k \: mod \: P"/>
          <p:cNvPicPr/>
          <p:nvPr/>
        </p:nvPicPr>
        <p:blipFill>
          <a:blip r:embed="rId1"/>
          <a:stretch/>
        </p:blipFill>
        <p:spPr>
          <a:xfrm>
            <a:off x="5940360" y="2205000"/>
            <a:ext cx="3024360" cy="503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66"/>
          <p:cNvSpPr/>
          <p:nvPr/>
        </p:nvSpPr>
        <p:spPr>
          <a:xfrm>
            <a:off x="311760" y="2851560"/>
            <a:ext cx="796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атем с помощью расширенного алгоритма Евклида необходим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 значение b в следующем уравнен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 = (X1 * a +k * b) mod (P-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 чисел (a, b) будет цифровой подписью сообщения 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67"/>
          <p:cNvSpPr/>
          <p:nvPr/>
        </p:nvSpPr>
        <p:spPr>
          <a:xfrm>
            <a:off x="330840" y="4291560"/>
            <a:ext cx="84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щение m вместе с подписью (a, b) отправляется пользователю 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69"/>
          <p:cNvSpPr/>
          <p:nvPr/>
        </p:nvSpPr>
        <p:spPr>
          <a:xfrm>
            <a:off x="313560" y="4696200"/>
            <a:ext cx="908208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льзователь 2 получает сообщение m и с использованием откры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а первого абонента Y</a:t>
            </a:r>
            <a:r>
              <a:rPr b="1" lang="ru-RU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числяет два числа по следующим формулам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Рисунок 7" descr="c_1=Y_1^a \times a^b \: mod \: P \\ c_2=A^m \: mod \: P "/>
          <p:cNvPicPr/>
          <p:nvPr/>
        </p:nvPicPr>
        <p:blipFill>
          <a:blip r:embed="rId2"/>
          <a:stretch/>
        </p:blipFill>
        <p:spPr>
          <a:xfrm>
            <a:off x="2050920" y="5445000"/>
            <a:ext cx="41054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тандарт ЭЦП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S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5280" y="1196640"/>
            <a:ext cx="8215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ычислить значение хеш-функции h = H(m) для сообщения m. Значение хеш-функции должно лежать в пределах 0 &lt; h &lt; q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тем сгенерировать случайное число k, 0 &lt; k &lt; q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ычислить r = (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k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mod p) mod q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пределить s = [k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}(H(m) + x * r)] mod q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 результате пользователь получит для сообщения m подпись, состоящую из пары чисел (r,s). Сообщение вместе с подписью может быть послано любому другому абоненту систем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оверить подпись можно следующим образом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ычислить значение хеш-функции h = H(m) для сообщения 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оверить выполнение неравенств 0 &lt; r &lt; q, 0 &lt; s &lt; q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ычисли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w = 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mod q 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ru-RU" sz="1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= [H(m) * w] mod q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= r * w mod q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 = [(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u1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* y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u2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) mod p] mod q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оверить выполнение равенства v = r. Если v = r, то подпись считается подлинной, иначе подпись считается недействите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04:53Z</dcterms:created>
  <dc:creator>User</dc:creator>
  <dc:description/>
  <dc:language>en-US</dc:language>
  <cp:lastModifiedBy>Левченков Александр</cp:lastModifiedBy>
  <dcterms:modified xsi:type="dcterms:W3CDTF">2019-03-29T06:59:07Z</dcterms:modified>
  <cp:revision>22</cp:revision>
  <dc:subject/>
  <dc:title>Основы и методы защиты информации </dc:title>
</cp:coreProperties>
</file>