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4672-B1EB-4BA0-B4BB-C3C5144ED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E64F-BCBB-49EB-B346-E96C68113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51BD-CA77-4B5A-8DCD-441570C6A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C4D3-D0DA-4746-AE3E-87EE9C18C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57670-E002-4CB2-90B4-A3C519260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3C431-36BE-44BA-BA08-F65AA0840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64C7E-024F-4219-9985-8943002AB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94A72-63BF-48D3-BDC0-90089A5F7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8E0DC-8776-410A-9E33-DE6663D85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94F09-490D-4D34-A527-290381DC3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4E213-41A8-4169-B263-DB9944E5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C953-BC74-4850-9A82-5F7671320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ADC64-180F-4DAA-A845-7FE8E42B7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1FABE-80C9-4E85-BE4E-5CDAF3783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87529-BA7F-4AB3-B8E1-45ACED9E1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47FE9-8B99-4412-9B03-4CB873A60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723DE-4ECC-4FD8-A003-E845B2BF0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3F03-994A-4083-BC54-E6C535E84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5662-56FE-46D5-B55D-2AC4D5CB9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DF99-8648-44E1-982A-32A782D0C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0CDB-2F79-4155-825E-839C70B12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0EA9-D158-42D5-A259-FC9E24174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21EF-2BE4-40B2-AF85-45C4DF1B2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3BE6-DBC1-4C80-8B49-1715691F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3B7AA-61DA-41C8-A8E1-114F8A44108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67B7F-2C60-43AD-BA76-DF360D608FA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899640" y="2060280"/>
            <a:ext cx="79218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Поточные шифры и генераторы псевдослучайных чисел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Метод Фибоначчи с запаздыванием</a:t>
            </a:r>
            <a:br>
              <a:rPr sz="2800"/>
            </a:b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684360" y="1003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Рисунок 9" descr="http://www.intuit.ru/EDI/23_02_16_1/1456179674-31116/tutorial/1011/objects/7/files/7_3.jpg"/>
          <p:cNvPicPr/>
          <p:nvPr/>
        </p:nvPicPr>
        <p:blipFill>
          <a:blip r:embed="rId1"/>
          <a:stretch/>
        </p:blipFill>
        <p:spPr>
          <a:xfrm>
            <a:off x="684360" y="1460520"/>
            <a:ext cx="2857320" cy="11764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9"/>
          <p:cNvSpPr/>
          <p:nvPr/>
        </p:nvSpPr>
        <p:spPr>
          <a:xfrm>
            <a:off x="684360" y="201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Прямоугольник 13"/>
          <p:cNvSpPr/>
          <p:nvPr/>
        </p:nvSpPr>
        <p:spPr>
          <a:xfrm>
            <a:off x="3789360" y="1428840"/>
            <a:ext cx="457200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= 4, b = 1, k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0.1; k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0.7; k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0.3; k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0.9; k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0.5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Прямоугольник 14"/>
          <p:cNvSpPr/>
          <p:nvPr/>
        </p:nvSpPr>
        <p:spPr>
          <a:xfrm>
            <a:off x="250920" y="2637000"/>
            <a:ext cx="8569080" cy="51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581040"/>
                <a:tab algn="l" pos="1162080"/>
                <a:tab algn="l" pos="1744560"/>
                <a:tab algn="l" pos="2325600"/>
                <a:tab algn="l" pos="2908440"/>
                <a:tab algn="l" pos="3489480"/>
                <a:tab algn="l" pos="4070520"/>
                <a:tab algn="l" pos="4653000"/>
                <a:tab algn="l" pos="5234040"/>
                <a:tab algn="l" pos="5816520"/>
                <a:tab algn="l" pos="6397560"/>
                <a:tab algn="l" pos="6978600"/>
                <a:tab algn="l" pos="7561440"/>
                <a:tab algn="l" pos="8142120"/>
                <a:tab algn="l" pos="8724960"/>
                <a:tab algn="l" pos="9306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ourier New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= 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- 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ourier New"/>
                <a:ea typeface="Times New Roman"/>
              </a:rPr>
              <a:t>4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= 0.7 - 0.5 = 0.2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581040"/>
                <a:tab algn="l" pos="1162080"/>
                <a:tab algn="l" pos="1744560"/>
                <a:tab algn="l" pos="2325600"/>
                <a:tab algn="l" pos="2908440"/>
                <a:tab algn="l" pos="3489480"/>
                <a:tab algn="l" pos="4070520"/>
                <a:tab algn="l" pos="4653000"/>
                <a:tab algn="l" pos="5234040"/>
                <a:tab algn="l" pos="5816520"/>
                <a:tab algn="l" pos="6397560"/>
                <a:tab algn="l" pos="6978600"/>
                <a:tab algn="l" pos="7561440"/>
                <a:tab algn="l" pos="8142120"/>
                <a:tab algn="l" pos="8724960"/>
                <a:tab algn="l" pos="9306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ourier New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= 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ourier New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- 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ourier New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= 0.3 - 0.2 = 0.1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581040"/>
                <a:tab algn="l" pos="1162080"/>
                <a:tab algn="l" pos="1744560"/>
                <a:tab algn="l" pos="2325600"/>
                <a:tab algn="l" pos="2908440"/>
                <a:tab algn="l" pos="3489480"/>
                <a:tab algn="l" pos="4070520"/>
                <a:tab algn="l" pos="4653000"/>
                <a:tab algn="l" pos="5234040"/>
                <a:tab algn="l" pos="5816520"/>
                <a:tab algn="l" pos="6397560"/>
                <a:tab algn="l" pos="6978600"/>
                <a:tab algn="l" pos="7561440"/>
                <a:tab algn="l" pos="8142120"/>
                <a:tab algn="l" pos="8724960"/>
                <a:tab algn="l" pos="9306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ourier New"/>
                <a:ea typeface="Times New Roman"/>
              </a:rPr>
              <a:t>7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= 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ourier New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- 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ourier New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= 0.9 - 0.1 = 0.8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581040"/>
                <a:tab algn="l" pos="1162080"/>
                <a:tab algn="l" pos="1744560"/>
                <a:tab algn="l" pos="2325600"/>
                <a:tab algn="l" pos="2908440"/>
                <a:tab algn="l" pos="3489480"/>
                <a:tab algn="l" pos="4070520"/>
                <a:tab algn="l" pos="4653000"/>
                <a:tab algn="l" pos="5234040"/>
                <a:tab algn="l" pos="5816520"/>
                <a:tab algn="l" pos="6397560"/>
                <a:tab algn="l" pos="6978600"/>
                <a:tab algn="l" pos="7561440"/>
                <a:tab algn="l" pos="8142120"/>
                <a:tab algn="l" pos="8724960"/>
                <a:tab algn="l" pos="9306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ourier New"/>
                <a:ea typeface="Times New Roman"/>
              </a:rPr>
              <a:t>8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= 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ourier New"/>
                <a:ea typeface="Times New Roman"/>
              </a:rPr>
              <a:t>4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- 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ourier New"/>
                <a:ea typeface="Times New Roman"/>
              </a:rPr>
              <a:t>7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+ 1 =0.5 - 0.8 + 1 = 0.7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581040"/>
                <a:tab algn="l" pos="1162080"/>
                <a:tab algn="l" pos="1744560"/>
                <a:tab algn="l" pos="2325600"/>
                <a:tab algn="l" pos="2908440"/>
                <a:tab algn="l" pos="3489480"/>
                <a:tab algn="l" pos="4070520"/>
                <a:tab algn="l" pos="4653000"/>
                <a:tab algn="l" pos="5234040"/>
                <a:tab algn="l" pos="5816520"/>
                <a:tab algn="l" pos="6397560"/>
                <a:tab algn="l" pos="6978600"/>
                <a:tab algn="l" pos="7561440"/>
                <a:tab algn="l" pos="8142120"/>
                <a:tab algn="l" pos="8724960"/>
                <a:tab algn="l" pos="9306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ourier New"/>
                <a:ea typeface="Times New Roman"/>
              </a:rPr>
              <a:t>9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= 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ourier New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- 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ourier New"/>
                <a:ea typeface="Times New Roman"/>
              </a:rPr>
              <a:t>8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+ 1 =0.2 - 0.7 + 1 = 0.5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581040"/>
                <a:tab algn="l" pos="1162080"/>
                <a:tab algn="l" pos="1744560"/>
                <a:tab algn="l" pos="2325600"/>
                <a:tab algn="l" pos="2908440"/>
                <a:tab algn="l" pos="3489480"/>
                <a:tab algn="l" pos="4070520"/>
                <a:tab algn="l" pos="4653000"/>
                <a:tab algn="l" pos="5234040"/>
                <a:tab algn="l" pos="5816520"/>
                <a:tab algn="l" pos="6397560"/>
                <a:tab algn="l" pos="6978600"/>
                <a:tab algn="l" pos="7561440"/>
                <a:tab algn="l" pos="8142120"/>
                <a:tab algn="l" pos="8724960"/>
                <a:tab algn="l" pos="9306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ourier New"/>
                <a:ea typeface="Times New Roman"/>
              </a:rPr>
              <a:t>10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= 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ourier New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- 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ourier New"/>
                <a:ea typeface="Times New Roman"/>
              </a:rPr>
              <a:t>9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+ 1 =0.1 - 0.5 + 1 = 0.6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581040"/>
                <a:tab algn="l" pos="1162080"/>
                <a:tab algn="l" pos="1744560"/>
                <a:tab algn="l" pos="2325600"/>
                <a:tab algn="l" pos="2908440"/>
                <a:tab algn="l" pos="3489480"/>
                <a:tab algn="l" pos="4070520"/>
                <a:tab algn="l" pos="4653000"/>
                <a:tab algn="l" pos="5234040"/>
                <a:tab algn="l" pos="5816520"/>
                <a:tab algn="l" pos="6397560"/>
                <a:tab algn="l" pos="6978600"/>
                <a:tab algn="l" pos="7561440"/>
                <a:tab algn="l" pos="8142120"/>
                <a:tab algn="l" pos="8724960"/>
                <a:tab algn="l" pos="9306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ourier New"/>
                <a:ea typeface="Times New Roman"/>
              </a:rPr>
              <a:t>11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= 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ourier New"/>
                <a:ea typeface="Times New Roman"/>
              </a:rPr>
              <a:t>7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- 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ourier New"/>
                <a:ea typeface="Times New Roman"/>
              </a:rPr>
              <a:t>10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= 0.8 - 0.6 = 0.2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581040"/>
                <a:tab algn="l" pos="1162080"/>
                <a:tab algn="l" pos="1744560"/>
                <a:tab algn="l" pos="2325600"/>
                <a:tab algn="l" pos="2908440"/>
                <a:tab algn="l" pos="3489480"/>
                <a:tab algn="l" pos="4070520"/>
                <a:tab algn="l" pos="4653000"/>
                <a:tab algn="l" pos="5234040"/>
                <a:tab algn="l" pos="5816520"/>
                <a:tab algn="l" pos="6397560"/>
                <a:tab algn="l" pos="6978600"/>
                <a:tab algn="l" pos="7561440"/>
                <a:tab algn="l" pos="8142120"/>
                <a:tab algn="l" pos="8724960"/>
                <a:tab algn="l" pos="9306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ourier New"/>
                <a:ea typeface="Times New Roman"/>
              </a:rPr>
              <a:t>12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= 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ourier New"/>
                <a:ea typeface="Times New Roman"/>
              </a:rPr>
              <a:t>8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- 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ourier New"/>
                <a:ea typeface="Times New Roman"/>
              </a:rPr>
              <a:t>11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= 0.7 - 0.2 = 0.5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581040"/>
                <a:tab algn="l" pos="1162080"/>
                <a:tab algn="l" pos="1744560"/>
                <a:tab algn="l" pos="2325600"/>
                <a:tab algn="l" pos="2908440"/>
                <a:tab algn="l" pos="3489480"/>
                <a:tab algn="l" pos="4070520"/>
                <a:tab algn="l" pos="4653000"/>
                <a:tab algn="l" pos="5234040"/>
                <a:tab algn="l" pos="5816520"/>
                <a:tab algn="l" pos="6397560"/>
                <a:tab algn="l" pos="6978600"/>
                <a:tab algn="l" pos="7561440"/>
                <a:tab algn="l" pos="8142120"/>
                <a:tab algn="l" pos="8724960"/>
                <a:tab algn="l" pos="9306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ru-RU" sz="2400" spc="-1" strike="noStrike" baseline="-25000">
                <a:solidFill>
                  <a:srgbClr val="ffffff"/>
                </a:solidFill>
                <a:latin typeface="Tahoma"/>
              </a:rPr>
              <a:t>13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= k</a:t>
            </a:r>
            <a:r>
              <a:rPr b="1" lang="ru-RU" sz="2400" spc="-1" strike="noStrike" baseline="-25000">
                <a:solidFill>
                  <a:srgbClr val="ffffff"/>
                </a:solidFill>
                <a:latin typeface="Tahoma"/>
              </a:rPr>
              <a:t>9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- k</a:t>
            </a:r>
            <a:r>
              <a:rPr b="1" lang="ru-RU" sz="2400" spc="-1" strike="noStrike" baseline="-25000">
                <a:solidFill>
                  <a:srgbClr val="ffffff"/>
                </a:solidFill>
                <a:latin typeface="Tahoma"/>
              </a:rPr>
              <a:t>12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+ 1 =0.5 - 0.5 + 1 = 1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581040"/>
                <a:tab algn="l" pos="1162080"/>
                <a:tab algn="l" pos="1744560"/>
                <a:tab algn="l" pos="2325600"/>
                <a:tab algn="l" pos="2908440"/>
                <a:tab algn="l" pos="3489480"/>
                <a:tab algn="l" pos="4070520"/>
                <a:tab algn="l" pos="4653000"/>
                <a:tab algn="l" pos="5234040"/>
                <a:tab algn="l" pos="5816520"/>
                <a:tab algn="l" pos="6397560"/>
                <a:tab algn="l" pos="6978600"/>
                <a:tab algn="l" pos="7561440"/>
                <a:tab algn="l" pos="8142120"/>
                <a:tab algn="l" pos="8724960"/>
                <a:tab algn="l" pos="9306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ru-RU" sz="2400" spc="-1" strike="noStrike" baseline="-25000">
                <a:solidFill>
                  <a:srgbClr val="ffffff"/>
                </a:solidFill>
                <a:latin typeface="Tahoma"/>
              </a:rPr>
              <a:t>14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= k</a:t>
            </a:r>
            <a:r>
              <a:rPr b="1" lang="ru-RU" sz="2400" spc="-1" strike="noStrike" baseline="-25000">
                <a:solidFill>
                  <a:srgbClr val="ffffff"/>
                </a:solidFill>
                <a:latin typeface="Tahoma"/>
              </a:rPr>
              <a:t>10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- k</a:t>
            </a:r>
            <a:r>
              <a:rPr b="1" lang="ru-RU" sz="2400" spc="-1" strike="noStrike" baseline="-25000">
                <a:solidFill>
                  <a:srgbClr val="ffffff"/>
                </a:solidFill>
                <a:latin typeface="Tahoma"/>
              </a:rPr>
              <a:t>13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+ 1 =0.6 - 1 + 1 = 0.6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581040"/>
                <a:tab algn="l" pos="1162080"/>
                <a:tab algn="l" pos="1744560"/>
                <a:tab algn="l" pos="2325600"/>
                <a:tab algn="l" pos="2908440"/>
                <a:tab algn="l" pos="3489480"/>
                <a:tab algn="l" pos="4070520"/>
                <a:tab algn="l" pos="4653000"/>
                <a:tab algn="l" pos="5234040"/>
                <a:tab algn="l" pos="5816520"/>
                <a:tab algn="l" pos="6397560"/>
                <a:tab algn="l" pos="6978600"/>
                <a:tab algn="l" pos="7561440"/>
                <a:tab algn="l" pos="8142120"/>
                <a:tab algn="l" pos="8724960"/>
                <a:tab algn="l" pos="9306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Алгоритм BBS 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95280" y="1268280"/>
            <a:ext cx="85694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p = 11, q = 19 (убеждаемся, что 11 mod 4 = 3, 19 mod 4 = 3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огда M = p* q = 11*19=209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берем х, взаимно простое с М: пуст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х = 3. Вычислим стартовое число генератора х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Tahoma"/>
              </a:rPr>
              <a:t>0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х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Tahoma"/>
              </a:rPr>
              <a:t>0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= х</a:t>
            </a:r>
            <a:r>
              <a:rPr b="0" lang="ru-RU" sz="32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mod M = 3</a:t>
            </a:r>
            <a:r>
              <a:rPr b="0" lang="ru-RU" sz="32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mod 209 = 9 mod 209 = 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539640" y="333360"/>
          <a:ext cx="8353440" cy="6210360"/>
        </p:xfrm>
        <a:graphic>
          <a:graphicData uri="http://schemas.openxmlformats.org/drawingml/2006/table">
            <a:tbl>
              <a:tblPr/>
              <a:tblGrid>
                <a:gridCol w="6408720"/>
                <a:gridCol w="1224000"/>
                <a:gridCol w="720720"/>
              </a:tblGrid>
              <a:tr h="558720">
                <a:tc>
                  <a:txBody>
                    <a:bodyPr lIns="15480" rIns="15480" tIns="15480" bIns="1548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х</a:t>
                      </a:r>
                      <a:r>
                        <a:rPr b="1" lang="ru-RU" sz="24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9</a:t>
                      </a:r>
                      <a:r>
                        <a:rPr b="1" lang="ru-RU" sz="24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mod 209= 81 mod 209= 8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5480" marR="15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5480" rIns="15480" tIns="15480" bIns="1548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ладший бит: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5480" marR="15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5480" rIns="15480" tIns="15480" bIns="1548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5480" marR="15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596880">
                <a:tc>
                  <a:txBody>
                    <a:bodyPr lIns="15480" rIns="15480" tIns="15480" bIns="1548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х</a:t>
                      </a:r>
                      <a:r>
                        <a:rPr b="1" lang="ru-RU" sz="24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81</a:t>
                      </a:r>
                      <a:r>
                        <a:rPr b="1" lang="ru-RU" sz="24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mod 209= 6561 mod 209= 8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5480" marR="15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5480" rIns="15480" tIns="15480" bIns="1548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младший бит: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5480" marR="15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15480" rIns="15480" tIns="15480" bIns="1548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5480" marR="15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</a:tr>
              <a:tr h="596880">
                <a:tc>
                  <a:txBody>
                    <a:bodyPr lIns="15480" rIns="15480" tIns="15480" bIns="1548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х</a:t>
                      </a:r>
                      <a:r>
                        <a:rPr b="1" lang="ru-RU" sz="24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82</a:t>
                      </a:r>
                      <a:r>
                        <a:rPr b="1" lang="ru-RU" sz="24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mod 209= 6724 mod 209= 3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5480" marR="15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5480" rIns="15480" tIns="15480" bIns="1548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младший бит: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5480" marR="15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lIns="15480" rIns="15480" tIns="15480" bIns="1548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5480" marR="15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</a:tr>
              <a:tr h="598680">
                <a:tc>
                  <a:txBody>
                    <a:bodyPr lIns="15480" rIns="15480" tIns="15480" bIns="1548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х</a:t>
                      </a:r>
                      <a:r>
                        <a:rPr b="1" lang="ru-RU" sz="24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36</a:t>
                      </a:r>
                      <a:r>
                        <a:rPr b="1" lang="ru-RU" sz="24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mod 209= 1296 mod 209= 4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5480" marR="15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5480" rIns="15480" tIns="15480" bIns="1548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младший бит: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5480" marR="15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15480" rIns="15480" tIns="15480" bIns="1548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5480" marR="15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</a:tr>
              <a:tr h="596880">
                <a:tc>
                  <a:txBody>
                    <a:bodyPr lIns="15480" rIns="15480" tIns="15480" bIns="1548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х</a:t>
                      </a:r>
                      <a:r>
                        <a:rPr b="1" lang="ru-RU" sz="24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42</a:t>
                      </a:r>
                      <a:r>
                        <a:rPr b="1" lang="ru-RU" sz="24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mod 209= 1764 mod 209= 9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5480" marR="15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5480" rIns="15480" tIns="15480" bIns="1548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младший бит: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5480" marR="15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lIns="15480" rIns="15480" tIns="15480" bIns="1548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5480" marR="15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</a:tr>
              <a:tr h="596880">
                <a:tc>
                  <a:txBody>
                    <a:bodyPr lIns="15480" rIns="15480" tIns="15480" bIns="1548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х</a:t>
                      </a:r>
                      <a:r>
                        <a:rPr b="1" lang="ru-RU" sz="24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92</a:t>
                      </a:r>
                      <a:r>
                        <a:rPr b="1" lang="ru-RU" sz="24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mod 209= 8464 mod 209= 10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5480" marR="15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5480" rIns="15480" tIns="15480" bIns="1548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младший бит: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5480" marR="15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15480" rIns="15480" tIns="15480" bIns="1548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5480" marR="15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</a:tr>
              <a:tr h="598320">
                <a:tc>
                  <a:txBody>
                    <a:bodyPr lIns="15480" rIns="15480" tIns="15480" bIns="1548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х</a:t>
                      </a:r>
                      <a:r>
                        <a:rPr b="1" lang="ru-RU" sz="24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104</a:t>
                      </a:r>
                      <a:r>
                        <a:rPr b="1" lang="ru-RU" sz="24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mod 209= 10816 mod 209= 15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5480" marR="15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5480" rIns="15480" tIns="15480" bIns="1548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младший бит: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5480" marR="15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lIns="15480" rIns="15480" tIns="15480" bIns="1548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5480" marR="15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</a:tr>
              <a:tr h="596880">
                <a:tc>
                  <a:txBody>
                    <a:bodyPr lIns="15480" rIns="15480" tIns="15480" bIns="1548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х</a:t>
                      </a:r>
                      <a:r>
                        <a:rPr b="1" lang="ru-RU" sz="24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8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157</a:t>
                      </a:r>
                      <a:r>
                        <a:rPr b="1" lang="ru-RU" sz="24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mod 209= 24649 mod 209= 19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5480" marR="15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5480" rIns="15480" tIns="15480" bIns="1548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младший бит: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5480" marR="15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15480" rIns="15480" tIns="15480" bIns="1548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5480" marR="15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</a:tr>
              <a:tr h="597240">
                <a:tc>
                  <a:txBody>
                    <a:bodyPr lIns="15480" rIns="15480" tIns="15480" bIns="1548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х</a:t>
                      </a:r>
                      <a:r>
                        <a:rPr b="1" lang="ru-RU" sz="24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9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196</a:t>
                      </a:r>
                      <a:r>
                        <a:rPr b="1" lang="ru-RU" sz="24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mod 209= 38416 mod 209= 16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5480" marR="15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5480" rIns="15480" tIns="15480" bIns="1548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младший бит: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5480" marR="15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lIns="15480" rIns="15480" tIns="15480" bIns="1548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5480" marR="15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</a:tr>
              <a:tr h="873000">
                <a:tc>
                  <a:txBody>
                    <a:bodyPr lIns="15480" rIns="15480" tIns="15480" bIns="1548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х</a:t>
                      </a:r>
                      <a:r>
                        <a:rPr b="1" lang="ru-RU" sz="24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169</a:t>
                      </a:r>
                      <a:r>
                        <a:rPr b="1" lang="ru-RU" sz="24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mod 209= 28561 mod 209= 13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5480" marR="15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5480" rIns="15480" tIns="15480" bIns="1548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младший бит: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5480" marR="15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15480" rIns="15480" tIns="15480" bIns="1548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5480" marR="15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Принцип работы поточного шифра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1" name="Рисунок 1" descr=" Принцип работы поточного шифра"/>
          <p:cNvPicPr/>
          <p:nvPr/>
        </p:nvPicPr>
        <p:blipFill>
          <a:blip r:embed="rId1"/>
          <a:stretch/>
        </p:blipFill>
        <p:spPr>
          <a:xfrm>
            <a:off x="1835280" y="1700280"/>
            <a:ext cx="691344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1116000" y="189000"/>
            <a:ext cx="7543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Принцип работы поточного шиф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Рисунок 2" descr="y_i = x_i \oplus k_i, i=1,2,…,n"/>
          <p:cNvPicPr/>
          <p:nvPr/>
        </p:nvPicPr>
        <p:blipFill>
          <a:blip r:embed="rId1"/>
          <a:stretch/>
        </p:blipFill>
        <p:spPr>
          <a:xfrm>
            <a:off x="3564000" y="2997360"/>
            <a:ext cx="3529080" cy="5760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8"/>
          <p:cNvSpPr/>
          <p:nvPr/>
        </p:nvSpPr>
        <p:spPr>
          <a:xfrm>
            <a:off x="-198360" y="806400"/>
            <a:ext cx="9966240" cy="24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Генератор ключей выдает поток битов k</a:t>
            </a:r>
            <a:r>
              <a:rPr b="1" lang="ru-RU" sz="2400" spc="-1" strike="noStrike" baseline="-30000">
                <a:solidFill>
                  <a:srgbClr val="ffffff"/>
                </a:solidFill>
                <a:latin typeface="Tahoma"/>
                <a:ea typeface="Times New Roman"/>
              </a:rPr>
              <a:t>i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которые будут использоваться в качестве гамм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Источник сообщений генерирует биты открытого текста х</a:t>
            </a:r>
            <a:r>
              <a:rPr b="1" lang="ru-RU" sz="2400" spc="-1" strike="noStrike" baseline="-30000">
                <a:solidFill>
                  <a:srgbClr val="ffffff"/>
                </a:solidFill>
                <a:latin typeface="Tahoma"/>
                <a:ea typeface="Times New Roman"/>
              </a:rPr>
              <a:t>i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которые складываются по модулю 2 с гаммой, в результат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чего получаются биты зашифрованного сообщения у</a:t>
            </a:r>
            <a:r>
              <a:rPr b="1" lang="ru-RU" sz="2400" spc="-1" strike="noStrike" baseline="-30000">
                <a:solidFill>
                  <a:srgbClr val="ffffff"/>
                </a:solidFill>
                <a:latin typeface="Tahoma"/>
                <a:ea typeface="Times New Roman"/>
              </a:rPr>
              <a:t>i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-408600" y="3688200"/>
            <a:ext cx="10036440" cy="21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Чтобы из шифротекста y</a:t>
            </a:r>
            <a:r>
              <a:rPr b="1" lang="ru-RU" sz="2400" spc="-1" strike="noStrike" baseline="-30000">
                <a:solidFill>
                  <a:srgbClr val="ffffff"/>
                </a:solidFill>
                <a:latin typeface="Tahoma"/>
                <a:ea typeface="Times New Roman"/>
              </a:rPr>
              <a:t>1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, y</a:t>
            </a:r>
            <a:r>
              <a:rPr b="1" lang="ru-RU" sz="2400" spc="-1" strike="noStrike" baseline="-30000">
                <a:solidFill>
                  <a:srgbClr val="ffffff"/>
                </a:solidFill>
                <a:latin typeface="Tahom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,..., y</a:t>
            </a:r>
            <a:r>
              <a:rPr b="1" lang="ru-RU" sz="2400" spc="-1" strike="noStrike" baseline="-30000">
                <a:solidFill>
                  <a:srgbClr val="ffffff"/>
                </a:solidFill>
                <a:latin typeface="Tahoma"/>
                <a:ea typeface="Times New Roman"/>
              </a:rPr>
              <a:t>n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восстановить сообще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x</a:t>
            </a:r>
            <a:r>
              <a:rPr b="1" lang="ru-RU" sz="2400" spc="-1" strike="noStrike" baseline="-30000">
                <a:solidFill>
                  <a:srgbClr val="ffffff"/>
                </a:solidFill>
                <a:latin typeface="Tahoma"/>
                <a:ea typeface="Times New Roman"/>
              </a:rPr>
              <a:t>1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, x</a:t>
            </a:r>
            <a:r>
              <a:rPr b="1" lang="ru-RU" sz="2400" spc="-1" strike="noStrike" baseline="-30000">
                <a:solidFill>
                  <a:srgbClr val="ffffff"/>
                </a:solidFill>
                <a:latin typeface="Tahom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,..., x</a:t>
            </a:r>
            <a:r>
              <a:rPr b="1" lang="ru-RU" sz="2400" spc="-1" strike="noStrike" baseline="-30000">
                <a:solidFill>
                  <a:srgbClr val="ffffff"/>
                </a:solidFill>
                <a:latin typeface="Tahoma"/>
                <a:ea typeface="Times New Roman"/>
              </a:rPr>
              <a:t>n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,  необходимо сгенерировать точно такую ж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ключевую последовательность  k</a:t>
            </a:r>
            <a:r>
              <a:rPr b="1" lang="ru-RU" sz="2400" spc="-1" strike="noStrike" baseline="-30000">
                <a:solidFill>
                  <a:srgbClr val="ffffff"/>
                </a:solidFill>
                <a:latin typeface="Tahoma"/>
                <a:ea typeface="Times New Roman"/>
              </a:rPr>
              <a:t>1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, y</a:t>
            </a:r>
            <a:r>
              <a:rPr b="1" lang="ru-RU" sz="2400" spc="-1" strike="noStrike" baseline="-30000">
                <a:solidFill>
                  <a:srgbClr val="ffffff"/>
                </a:solidFill>
                <a:latin typeface="Tahoma"/>
                <a:ea typeface="Times New Roman"/>
              </a:rPr>
              <a:t>k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,..., k</a:t>
            </a:r>
            <a:r>
              <a:rPr b="1" lang="ru-RU" sz="2400" spc="-1" strike="noStrike" baseline="-30000">
                <a:solidFill>
                  <a:srgbClr val="ffffff"/>
                </a:solidFill>
                <a:latin typeface="Tahoma"/>
                <a:ea typeface="Times New Roman"/>
              </a:rPr>
              <a:t>n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, что и пр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шифровании, и использовать для расшифрования формул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Rectangle 10"/>
          <p:cNvSpPr/>
          <p:nvPr/>
        </p:nvSpPr>
        <p:spPr>
          <a:xfrm>
            <a:off x="-4605480" y="433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Рисунок 3" descr="x_i = y_i \oplus k_i,\  i=1,2,…,n&#13;&#10;"/>
          <p:cNvPicPr/>
          <p:nvPr/>
        </p:nvPicPr>
        <p:blipFill>
          <a:blip r:embed="rId2"/>
          <a:stretch/>
        </p:blipFill>
        <p:spPr>
          <a:xfrm>
            <a:off x="3851280" y="5877000"/>
            <a:ext cx="3527280" cy="5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1116000" y="189000"/>
            <a:ext cx="7543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Приме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876240" y="1407600"/>
            <a:ext cx="8020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усть известно, что исходное сообщени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едставляло собой двоично-десятичное число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то есть число, каждая тетрада (четыре бита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оторого получена при переводе десятичн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цифры 0...9 в двоичный вид. Перехвачен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24 бита зашифрованного сообщения Y, то ес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шесть тетрад Y1, Y2, Y3, Y4, Y5, Y6, а именн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значение 1100 1101 1110 1111 0000 0001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Известно, что ключ шифрования состоял из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четырех бит, которые тоже представляют соб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днозначное десятичное число, то есть одно 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то же значение 0≤K≤9 использовалось дл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шифрования каждых четырех бит исходног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ообщени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5" descr=" Пример таблицы замен для двух шифров"/>
          <p:cNvPicPr/>
          <p:nvPr/>
        </p:nvPicPr>
        <p:blipFill>
          <a:blip r:embed="rId1"/>
          <a:stretch/>
        </p:blipFill>
        <p:spPr>
          <a:xfrm>
            <a:off x="1042920" y="189000"/>
            <a:ext cx="777888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8"/>
          <p:cNvSpPr/>
          <p:nvPr/>
        </p:nvSpPr>
        <p:spPr>
          <a:xfrm>
            <a:off x="1042920" y="408600"/>
            <a:ext cx="7740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Таким образом, шифрование числа  X</a:t>
            </a:r>
            <a:r>
              <a:rPr b="1" lang="ru-RU" sz="2400" spc="-1" strike="noStrike" baseline="-30000">
                <a:solidFill>
                  <a:srgbClr val="ffffff"/>
                </a:solidFill>
                <a:latin typeface="Tahoma"/>
                <a:ea typeface="Times New Roman"/>
              </a:rPr>
              <a:t>1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, X</a:t>
            </a:r>
            <a:r>
              <a:rPr b="1" lang="ru-RU" sz="2400" spc="-1" strike="noStrike" baseline="-30000">
                <a:solidFill>
                  <a:srgbClr val="ffffff"/>
                </a:solidFill>
                <a:latin typeface="Tahom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, X</a:t>
            </a:r>
            <a:r>
              <a:rPr b="1" lang="ru-RU" sz="2400" spc="-1" strike="noStrike" baseline="-30000">
                <a:solidFill>
                  <a:srgbClr val="ffffff"/>
                </a:solidFill>
                <a:latin typeface="Tahoma"/>
                <a:ea typeface="Times New Roman"/>
              </a:rPr>
              <a:t>3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, X</a:t>
            </a:r>
            <a:r>
              <a:rPr b="1" lang="ru-RU" sz="2400" spc="-1" strike="noStrike" baseline="-30000">
                <a:solidFill>
                  <a:srgbClr val="ffffff"/>
                </a:solidFill>
                <a:latin typeface="Tahoma"/>
                <a:ea typeface="Times New Roman"/>
              </a:rPr>
              <a:t>4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, X</a:t>
            </a:r>
            <a:r>
              <a:rPr b="1" lang="ru-RU" sz="2400" spc="-1" strike="noStrike" baseline="-30000">
                <a:solidFill>
                  <a:srgbClr val="ffffff"/>
                </a:solidFill>
                <a:latin typeface="Tahoma"/>
                <a:ea typeface="Times New Roman"/>
              </a:rPr>
              <a:t>5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, X</a:t>
            </a:r>
            <a:r>
              <a:rPr b="1" lang="ru-RU" sz="2400" spc="-1" strike="noStrike" baseline="-30000">
                <a:solidFill>
                  <a:srgbClr val="ffffff"/>
                </a:solidFill>
                <a:latin typeface="Tahoma"/>
                <a:ea typeface="Times New Roman"/>
              </a:rPr>
              <a:t>6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ключом К  можно представить в виде системы уравнений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Рисунок 4" descr="\begin {multiple}X_1 \oplus K=1100\ \ \ X_2 \oplus K=1101\ \ \ X_3 \oplus K=1110\\&#13;&#10;X_4 \oplus K=1111\ \ \ X_5 \oplus K=0000\ \ \ X_6 \oplus K=0001&#13;&#10;\end{multiple}"/>
          <p:cNvPicPr/>
          <p:nvPr/>
        </p:nvPicPr>
        <p:blipFill>
          <a:blip r:embed="rId1"/>
          <a:stretch/>
        </p:blipFill>
        <p:spPr>
          <a:xfrm>
            <a:off x="539640" y="2060640"/>
            <a:ext cx="8391600" cy="50328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9"/>
          <p:cNvSpPr/>
          <p:nvPr/>
        </p:nvSpPr>
        <p:spPr>
          <a:xfrm>
            <a:off x="952560" y="2996280"/>
            <a:ext cx="7270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K =  0000 0001 0010 0011 0100 0101 0110 0111 1000 1001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Y1 = 1100 1100 1100 1100 1100 1100 1100 1100 1100 1100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--------------------------------------------------------------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X1’ = 1100 1101 1110 1111 1000 1001 1010 1011 0100 010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62"/>
          <p:cNvSpPr/>
          <p:nvPr/>
        </p:nvSpPr>
        <p:spPr>
          <a:xfrm>
            <a:off x="1403280" y="262440"/>
            <a:ext cx="71992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ля дальнейшего поиска неизвестного 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пределим все возможные значения X2’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оставшихся вариантов ключа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умма которых по модулю 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водит к результату Y2 = 1101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K = 0100 0101 1000 1001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Y2 = 1101 1101 1101 1101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-------------------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X2’ = 1001 1000 0101 01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идно, что этот этап не позволил отбросит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и одного из оставшихся вариантов ключ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пытаемся это сделать, используя Y3=1110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K = 0100 0101 1000 1001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Y3 = 1110 1110 1110 1110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-------------------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X2’ = 1010 1011 0110 011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сле проведения этого этапа становится ясно, что ключом не могли быть значения 0100 и 0101. Остается два возможных значения ключа: 1000(2)=8(10) и 1001(2)=9(10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260280"/>
            <a:ext cx="75438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ahoma"/>
              </a:rPr>
              <a:t>Линейный конгруэнтный генератор псевдослучайных чисел</a:t>
            </a:r>
            <a:br>
              <a:rPr sz="2400"/>
            </a:b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50560" y="1197000"/>
            <a:ext cx="871380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=(a*k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i-1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+b)mod c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де а, b, с — некоторые константы, a k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Tahoma"/>
              </a:rPr>
              <a:t>i-1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— предыдущее псевдослучайное числ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= (5 * 1 + 3) mod 11 = 8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= (5 * 8 + 3) mod 11 = 10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= (5 * 10 + 3) mod 11 = 9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= (5 * 9 + 3) mod 11 = 4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Tahoma"/>
              </a:rPr>
              <a:t>5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= (5 * 4 + 3) mod 11 = 1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066320" y="620280"/>
            <a:ext cx="75438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Tahoma"/>
              </a:rPr>
              <a:t>6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= (5 * 1 + 3) mod 11 = 8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Tahoma"/>
              </a:rPr>
              <a:t>7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= (5 * 8 + 3) mod 11 = 10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Tahoma"/>
              </a:rPr>
              <a:t>8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= (5 * 10 + 3) mod 11 = 9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(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k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i-1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k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i-1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b) mod 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(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k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i-1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k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i-1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k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i-1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b) mod 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Прямоугольник 3"/>
          <p:cNvSpPr/>
          <p:nvPr/>
        </p:nvSpPr>
        <p:spPr>
          <a:xfrm>
            <a:off x="2286000" y="2905200"/>
            <a:ext cx="4572000" cy="15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581040"/>
                <a:tab algn="l" pos="1162080"/>
                <a:tab algn="l" pos="1744560"/>
                <a:tab algn="l" pos="2325600"/>
                <a:tab algn="l" pos="2908440"/>
                <a:tab algn="l" pos="3489480"/>
                <a:tab algn="l" pos="4070520"/>
                <a:tab algn="l" pos="4653000"/>
                <a:tab algn="l" pos="5234040"/>
                <a:tab algn="l" pos="5816520"/>
                <a:tab algn="l" pos="6397560"/>
                <a:tab algn="l" pos="6978600"/>
                <a:tab algn="l" pos="7561440"/>
                <a:tab algn="l" pos="8142120"/>
                <a:tab algn="l" pos="8724960"/>
                <a:tab algn="l" pos="9306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k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=(a*k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+b) mod 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581040"/>
                <a:tab algn="l" pos="1162080"/>
                <a:tab algn="l" pos="1744560"/>
                <a:tab algn="l" pos="2325600"/>
                <a:tab algn="l" pos="2908440"/>
                <a:tab algn="l" pos="3489480"/>
                <a:tab algn="l" pos="4070520"/>
                <a:tab algn="l" pos="4653000"/>
                <a:tab algn="l" pos="5234040"/>
                <a:tab algn="l" pos="5816520"/>
                <a:tab algn="l" pos="6397560"/>
                <a:tab algn="l" pos="6978600"/>
                <a:tab algn="l" pos="7561440"/>
                <a:tab algn="l" pos="8142120"/>
                <a:tab algn="l" pos="8724960"/>
                <a:tab algn="l" pos="9306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k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=(a*k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+b) mod 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581040"/>
                <a:tab algn="l" pos="1162080"/>
                <a:tab algn="l" pos="1744560"/>
                <a:tab algn="l" pos="2325600"/>
                <a:tab algn="l" pos="2908440"/>
                <a:tab algn="l" pos="3489480"/>
                <a:tab algn="l" pos="4070520"/>
                <a:tab algn="l" pos="4653000"/>
                <a:tab algn="l" pos="5234040"/>
                <a:tab algn="l" pos="5816520"/>
                <a:tab algn="l" pos="6397560"/>
                <a:tab algn="l" pos="6978600"/>
                <a:tab algn="l" pos="7561440"/>
                <a:tab algn="l" pos="8142120"/>
                <a:tab algn="l" pos="8724960"/>
                <a:tab algn="l" pos="9306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k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Courier New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=(a*k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Courier New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+b) mod 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5T17:04:53Z</dcterms:created>
  <dc:creator>User</dc:creator>
  <dc:description/>
  <dc:language>en-US</dc:language>
  <cp:lastModifiedBy>Левченков Александр</cp:lastModifiedBy>
  <dcterms:modified xsi:type="dcterms:W3CDTF">2020-03-05T06:29:55Z</dcterms:modified>
  <cp:revision>18</cp:revision>
  <dc:subject/>
  <dc:title>Основы и методы защиты информации </dc:title>
</cp:coreProperties>
</file>