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22B-3F38-4E2F-8044-93E6B618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0FB-6CF1-40F0-BD51-4DF40E7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A7D-23E9-482A-8FA7-19293D0E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70D-85B6-4D25-B39A-FEDBAD37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46A-A8A2-4E7C-AAA4-7C4195A5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0AC3-8D38-4627-89C2-8A34318D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D60-4E7F-4E7C-A2F6-82DD76A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A96D-3487-49AD-93B6-D714DC2F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D08-28D8-4506-9F39-05D27B5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040F-2935-4E1E-84ED-67BDFFF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8187-4D51-4C16-AC52-DA1C07C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D01-C408-498D-B646-FAF5D91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8B2-A246-4B2A-BB96-E638269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730-A4D5-408D-AD07-B62F05C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736-6757-4F13-A588-E153BCF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FC65-0840-43F7-9FEF-52A8FA0E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59C5-D3F5-4179-B4D5-8690DAAA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72D-FAD9-4D8A-8EA4-944CB801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BC5-7694-4674-A27F-FF5A085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030-3512-4F12-B2B7-2296B98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18E-0351-45F6-9455-8157D22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1AA-8EC5-4E73-AFAF-D6585B1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3C9-7390-4BE6-AEA9-4C200C8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42F-B931-42F0-9617-D5D846C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D29-1C74-43A5-B861-34593B290F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006-849B-44F7-9C3C-25B967873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921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Блочное шифр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омпозиционные шифр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Понятие композиционного шиф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509920" y="1051200"/>
            <a:ext cx="53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сть период перестановки d=6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 ключ К равен 436215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1" descr="http://www.intuit.ru/EDI/23_02_16_1/1456179674-31116/tutorial/1011/objects/3/files/3_1.jpg"/>
          <p:cNvPicPr/>
          <p:nvPr/>
        </p:nvPicPr>
        <p:blipFill>
          <a:blip r:embed="rId1"/>
          <a:stretch/>
        </p:blipFill>
        <p:spPr>
          <a:xfrm>
            <a:off x="2987640" y="2133720"/>
            <a:ext cx="4608720" cy="93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48200" y="3528000"/>
            <a:ext cx="688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означим ключ в методе Цезаря k1 (1&lt;=k1&lt;=31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 ключ при перестановке – k2. Тогда общий клю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 = (k1, k2). Таким образом, если К = (5, 4362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2" descr="http://www.intuit.ru/EDI/23_02_16_1/1456179674-31116/tutorial/1011/objects/3/files/3_2.jpg"/>
          <p:cNvPicPr/>
          <p:nvPr/>
        </p:nvPicPr>
        <p:blipFill>
          <a:blip r:embed="rId2"/>
          <a:stretch/>
        </p:blipFill>
        <p:spPr>
          <a:xfrm>
            <a:off x="1116000" y="4869000"/>
            <a:ext cx="748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457200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онятие композиционного шиф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4" descr="http://www.intuit.ru/EDI/23_02_16_1/1456179674-31116/tutorial/1011/objects/3/files/3_4.jpg"/>
          <p:cNvPicPr/>
          <p:nvPr/>
        </p:nvPicPr>
        <p:blipFill>
          <a:blip r:embed="rId1"/>
          <a:stretch/>
        </p:blipFill>
        <p:spPr>
          <a:xfrm>
            <a:off x="684360" y="2349360"/>
            <a:ext cx="828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Блочные алгоритмы симметричного шиф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10" descr="http://www.intuit.ru/EDI/23_02_16_1/1456179674-31116/tutorial/1011/objects/3/files/3_5.jpg"/>
          <p:cNvPicPr/>
          <p:nvPr/>
        </p:nvPicPr>
        <p:blipFill>
          <a:blip r:embed="rId1"/>
          <a:stretch/>
        </p:blipFill>
        <p:spPr>
          <a:xfrm>
            <a:off x="395280" y="1268280"/>
            <a:ext cx="8497800" cy="2519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1" descr="http://www.intuit.ru/EDI/23_02_16_1/1456179674-31116/tutorial/1011/objects/3/files/3_6.jpg"/>
          <p:cNvPicPr/>
          <p:nvPr/>
        </p:nvPicPr>
        <p:blipFill>
          <a:blip r:embed="rId2"/>
          <a:stretch/>
        </p:blipFill>
        <p:spPr>
          <a:xfrm>
            <a:off x="468360" y="4005360"/>
            <a:ext cx="842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Алгоритмы циклического сдви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2" descr="http://www.intuit.ru/EDI/23_02_16_1/1456179674-31116/tutorial/1011/objects/3/files/3_7.jpg"/>
          <p:cNvPicPr/>
          <p:nvPr/>
        </p:nvPicPr>
        <p:blipFill>
          <a:blip r:embed="rId1"/>
          <a:stretch/>
        </p:blipFill>
        <p:spPr>
          <a:xfrm>
            <a:off x="179280" y="836640"/>
            <a:ext cx="864072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3" descr="http://www.intuit.ru/EDI/23_02_16_1/1456179674-31116/tutorial/1011/objects/3/files/3_8.jpg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11600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Алгоритмы табличной подстан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32000" y="907920"/>
          <a:ext cx="3744720" cy="4394160"/>
        </p:xfrm>
        <a:graphic>
          <a:graphicData uri="http://schemas.openxmlformats.org/drawingml/2006/table">
            <a:tbl>
              <a:tblPr/>
              <a:tblGrid>
                <a:gridCol w="2606400"/>
                <a:gridCol w="1138320"/>
              </a:tblGrid>
              <a:tr h="7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63120" y="547092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-&gt;3, 1-&gt;5, 2-&gt;0, 3-&gt;7, 4-&gt;2, 5-&gt;6, 6-&gt;1, 7-&gt;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264680" y="59760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, 5, 0, 7, 2, 6, 1, 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01720" y="33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лочный алгоритм симметричного шиф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Рисунок 14" descr=" Структура блочного алгоритма симметричного шифрования "/>
          <p:cNvPicPr/>
          <p:nvPr/>
        </p:nvPicPr>
        <p:blipFill>
          <a:blip r:embed="rId1"/>
          <a:stretch/>
        </p:blipFill>
        <p:spPr>
          <a:xfrm>
            <a:off x="900000" y="198900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2411280" y="333360"/>
            <a:ext cx="525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ть Фейш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21" descr="i-й раунд сети Фейштеля "/>
          <p:cNvPicPr/>
          <p:nvPr/>
        </p:nvPicPr>
        <p:blipFill>
          <a:blip r:embed="rId1"/>
          <a:stretch/>
        </p:blipFill>
        <p:spPr>
          <a:xfrm>
            <a:off x="1547640" y="1268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04:53Z</dcterms:created>
  <dc:creator>User</dc:creator>
  <dc:description/>
  <dc:language>en-US</dc:language>
  <cp:lastModifiedBy>Александр Николаевич</cp:lastModifiedBy>
  <dcterms:modified xsi:type="dcterms:W3CDTF">2017-05-02T06:33:19Z</dcterms:modified>
  <cp:revision>23</cp:revision>
  <dc:subject/>
  <dc:title>Основы и методы защиты информации </dc:title>
</cp:coreProperties>
</file>