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CB7B-4FDE-4FDE-90C9-F6BF046A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4BCD-2090-45FE-AAF0-69740446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35DB-94E5-4DE6-967C-EE57966B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2DA8-937E-4AE0-8B35-7C0E86D6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3F9D-99EE-4D02-969E-C9D86A42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589-54FB-4FE4-B24B-21A75B3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D851-2D33-4139-AF7F-BA89F414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519-7C69-4CC3-BDAA-FC33EDCB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B51-F6DA-470E-B65C-D351125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270-DBFD-470D-8CDA-1B3F3AF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829-0E90-4283-B11D-29D3DF4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F6F5-33F2-4FBB-8DBE-F655CB8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2593-FEAE-47F2-816E-69E2D39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3AF-8E2B-47AF-89E3-EEA9EF4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26AC-9C2C-4D76-8669-262B89A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9F1-F823-446A-9B9C-4DC256C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AD05-2095-4207-9FE3-757A3BE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6932-FE5F-4019-A14D-88C07FB2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7389-81A6-467F-B8D7-A5051A1D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215F-6B8F-42DD-8710-6C1911B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75CA-A2D0-4F13-8293-371C02B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CDAA-6EE8-47AD-A0D2-A51D560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A60A-F42D-4AB9-B550-601D6DB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5097-820D-44D3-A6C5-43358DC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6F8C-358D-41B2-8823-AA9B2A2DD5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979-7C36-4686-A13B-109B336FCB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Информационная безопасность и защита информац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ые понятия информационной безопас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рмин: «Информационная безопасност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трина ИБ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 об информационном обме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3357720"/>
            <a:ext cx="7993080" cy="1465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д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онной безопасность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будем понимать защищенность информации и поддерживающей инфраструктуры от случайных или преднамеренных воздействий естественного или искусственного характера, которые могут нанести существенный вред субъектам информационных отнош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39640" y="5163480"/>
            <a:ext cx="799308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: Защита информации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комплекс мероприятий, направленных на обеспечение информационной безопас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ледств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ктовка проблем, связанных с информационной безопасностью, для разных категорий субъектов может существенно различать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ая безопасность не сводится исключительно к защите от несанкционированного доступа к информации, это принципиально более широкое понят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909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Компьютерная безопасность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=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нформационная безопасность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4360" y="2724120"/>
            <a:ext cx="7993080" cy="2014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д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онной безопасность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будем понимать защищенность информации и поддерживающей инфраструктуры от случайных или преднамеренных воздействий естественного или искусственного характера, которые могут нанести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уществен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ред субъектам информационных отнош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составляющие Информационной безопаснос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ступ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нфиденциа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86480" y="4291920"/>
            <a:ext cx="8718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онную безопасность нельзя куп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ажность граней ИБ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ступ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нфиденциа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932360" y="1916280"/>
            <a:ext cx="2664000" cy="1728720"/>
          </a:xfrm>
          <a:prstGeom prst="leftArrowCallout">
            <a:avLst>
              <a:gd name="adj1" fmla="val 25002"/>
              <a:gd name="adj2" fmla="val 25000"/>
              <a:gd name="adj3" fmla="val 25684"/>
              <a:gd name="adj4" fmla="val 66673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нам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нализ проблем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ременная технология программирования не позволяет создавать безошибочные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омное число систем, а точнее администраторов этих систем даже не подозревают о том, что их системы были атаков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обнаруживаются новые уязвимые места в программном обеспечении и, как следствие, появляются новые виды ата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и «пострадавших» операционных платформ – почти все разновидности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Номер слайда 1"/>
          <p:cNvSpPr/>
          <p:nvPr/>
        </p:nvSpPr>
        <p:spPr>
          <a:xfrm>
            <a:off x="8532720" y="620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7:19:28Z</dcterms:created>
  <dc:creator>Андрей</dc:creator>
  <dc:description/>
  <dc:language>en-US</dc:language>
  <cp:lastModifiedBy>Левченков Александр</cp:lastModifiedBy>
  <dcterms:modified xsi:type="dcterms:W3CDTF">2022-02-01T08:24:29Z</dcterms:modified>
  <cp:revision>5</cp:revision>
  <dc:subject/>
  <dc:title>Информационная безопасность и защита информации</dc:title>
</cp:coreProperties>
</file>