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0DF-15E1-4BCD-A562-3AB3324D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30A-5A19-45D9-8751-B23DA515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131-8FC5-4F64-98D0-E1553D06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14B-5C1B-4C08-A54C-4F7842C0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EC7C-27DC-44A5-8948-789DD15C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5F64-0D6B-4D65-ACE4-EB2727E6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15A2-088E-4DAF-A444-C53BA03F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98FE-F4EF-4652-9D4F-A6256C16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DE23-4687-429D-8C94-36A8746F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3CEC-5F4E-415D-9C75-CECA778A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6DEF-9670-4867-BD4E-92E06F73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140-9680-41A0-99F4-A60D1234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2769-9A29-434D-A4C3-DBE8ADF3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BD25-8466-41EC-98B6-E0E11C93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7636-B81D-4177-B650-F70EA4EA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EA45-6C4A-4856-B4E4-CEA6EF4D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85C7-1C30-4CE2-ACB4-EE89FFE1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B08-25B4-432B-B18F-B1F52930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965-2511-48AE-8718-0EB6E196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90A-994E-48E3-BA65-A237E8F4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E83-F554-4CB2-9B39-C5D462C0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C5A-B2C2-4580-9621-E24724C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084-2CB2-4064-8496-82A79973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F9A-D46B-4C00-B574-DAC1EC1B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FB8B-6D65-4364-99B6-87C586B622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EA7F-7A9B-4737-96D3-17D56F9643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921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риптографическ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ХЕШ-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Понятие ХЕШ-функци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598680" y="1411920"/>
            <a:ext cx="85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h=H(M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де М – исходное сообщение, называемое иногда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образом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h – результат, называемый значением хеш-функ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а также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хеш-кодом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айджестом сообщен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от англ.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message digest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)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1211760" y="306756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E 54 A0 1F B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755160" y="3211560"/>
            <a:ext cx="4946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0011 11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0101 01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10 0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0001 11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11 01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0110 01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зультат ( 0110 0101(2) или 65(16) 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будет значением хеш-функц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"/>
          <p:cNvSpPr/>
          <p:nvPr/>
        </p:nvSpPr>
        <p:spPr>
          <a:xfrm>
            <a:off x="-4572000" y="4183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Требования к ХЕШ-фун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166320" y="1774440"/>
            <a:ext cx="9243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еш-функция должна быть применима к сообщению любого размер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числение значения функции должно выполняться достаточно быстр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 известном значении хеш-функции должно быть труд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практически невозможно) найти подходящий прообраз М 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 известном сообщении М должно быть трудно най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ругое сообщение М’ с таким же значением хеш-функции, как 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ходного сообщ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лжно быть трудно найти какую-либо пару случай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личных сообщений с одинаковым значением хеш-функц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хемы блочного шифра для ХЕ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10680" y="2078280"/>
            <a:ext cx="9334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М</a:t>
            </a:r>
            <a:r>
              <a:rPr b="1" lang="ru-RU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блок исходного сообщ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ru-RU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значение хеш-функции на i-том этап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– блочный алгоритм шифрования, используемый в режиме простой замен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Рисунок 1" descr="\oplus"/>
          <p:cNvPicPr/>
          <p:nvPr/>
        </p:nvPicPr>
        <p:blipFill>
          <a:blip r:embed="rId1"/>
          <a:stretch/>
        </p:blipFill>
        <p:spPr>
          <a:xfrm>
            <a:off x="826920" y="3429000"/>
            <a:ext cx="648000" cy="4795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2"/>
          <p:cNvSpPr/>
          <p:nvPr/>
        </p:nvSpPr>
        <p:spPr>
          <a:xfrm>
            <a:off x="1188000" y="3382200"/>
            <a:ext cx="48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операция сложения по модулю 2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Рисунок 2" descr="h_i=f(M_i,h_{i-1}) \oplus M_i,\\&#13;&#10;h_i=f(M_i,h_{i-1}) \oplus h_{i-1} \oplus M_i,\\&#13;&#10;h_i=f(h_{i-1},M_i) \oplus h_i,\\&#13;&#10;h_i=f(h_{i-1}\oplus M_i,M_i) \oplus h_i\\"/>
          <p:cNvPicPr/>
          <p:nvPr/>
        </p:nvPicPr>
        <p:blipFill>
          <a:blip r:embed="rId2"/>
          <a:stretch/>
        </p:blipFill>
        <p:spPr>
          <a:xfrm>
            <a:off x="380880" y="4149720"/>
            <a:ext cx="8763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04:53Z</dcterms:created>
  <dc:creator>User</dc:creator>
  <dc:description/>
  <dc:language>en-US</dc:language>
  <cp:lastModifiedBy>Левченков Александр</cp:lastModifiedBy>
  <dcterms:modified xsi:type="dcterms:W3CDTF">2022-11-12T16:00:24Z</dcterms:modified>
  <cp:revision>26</cp:revision>
  <dc:subject/>
  <dc:title>Основы и методы защиты информации </dc:title>
</cp:coreProperties>
</file>