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E6B2-7649-4B2A-A930-5439D557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0F0C2-CB53-4701-84B8-03A683C1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72921-F4B7-4B23-90CC-75D7AF49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C71E3-8859-4A06-820A-CDC5FD3D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0DA1D-1C7E-42D0-8E53-D0B14536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8902E-11A7-4ECC-99F8-D0D4C2B4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22C44-2472-4800-BC0E-D033376D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7FD26-93AA-4EBE-A9FE-0A53097B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BE6A1-CDF4-4398-8FB0-9E85464A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84417-1E27-40CF-B035-AE1817B9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AF82F-CA16-4A6F-A6CF-CC4E594B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20F8-A92F-41DB-A25D-DF03E287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744FE-D876-4169-8667-1D99106C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CAFF3-AA3A-42F7-86C2-FE601174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DD014-BB3D-4FF3-842C-3F925B36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5E458-92AC-406D-84F7-1FE7A0D0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12341-FF1D-4BC6-B5A5-0479C266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B1676-BD98-407F-8B1F-B018568D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E1BFB-7212-4462-B091-4785F22D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B40D4-E9D0-4D2A-B447-53A8FADE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B8F13-8A46-4839-85C7-306909CD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D193B-BA08-4A24-86BA-4EA86F06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28C3F-3724-4CEF-B09E-7E892D32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81405-7985-4E8A-9E16-1AB38929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A446D-580A-4B1C-B9C1-0AA67BA1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F50C0-9F32-4E3B-A1BB-8B072365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A7F40-883C-46B2-A3EB-7BF3DFC1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E1517-4FF9-4F5D-99F6-A58B3929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20CA6-9838-418D-9882-C97BC65C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F48E7-886A-41F0-A321-09883CD5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A572F-3218-4C58-A047-713BA0C6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D881A-A8BD-41A1-A2A7-8F448030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DB523-2A15-4231-9E60-DF5427DF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FB377-D863-404D-A320-88A09D1D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6618E-968D-44FC-BDF7-72361AB0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EFDF2-9850-4E95-B04F-37DB7E88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B59A7-11D9-4828-B561-1291A480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B4AA6-0F45-4818-8B04-EC17631E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DF3B4-F9C6-4779-876B-57907483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19A82-449A-45CC-AB11-2AE98F17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4CCF6-648F-4A9D-B485-08062A55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2FC7A-136F-41E9-8153-5196B6FB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88060-50DE-4FCB-9484-229F79D9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72D6-78DC-4DBB-86A8-4F4CC336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C6B05-824F-40A5-831C-0167D8A4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E210-372B-4F8E-9AA1-8E75A34B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FC38-7E70-4C2E-A658-62FC1D58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918EE-50C0-473D-9271-AD3A03DF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B017-B6C3-438C-9B51-D7DA0477800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15F0-DEB0-4554-BBFE-AD88BD810C71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89B8-E7BB-4714-8077-45193EB4CF5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ABB4-6689-4A64-BCA0-16C6FA0421B5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1280" y="134136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мметричные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тоды шиф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95360" indent="-495360">
              <a:spcBef>
                <a:spcPts val="6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бщая схема СМШ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етоды замен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етоды перестановк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3"/>
          <p:cNvSpPr/>
          <p:nvPr/>
        </p:nvSpPr>
        <p:spPr>
          <a:xfrm>
            <a:off x="8172360" y="157320"/>
            <a:ext cx="722520" cy="576000"/>
          </a:xfrm>
          <a:custGeom>
            <a:avLst/>
            <a:gdLst>
              <a:gd name="textAreaLeft" fmla="*/ 164880 w 722520"/>
              <a:gd name="textAreaRight" fmla="*/ 557640 w 722520"/>
              <a:gd name="textAreaTop" fmla="*/ 131400 h 576000"/>
              <a:gd name="textAreaBottom" fmla="*/ 444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468360" y="836640"/>
          <a:ext cx="8218440" cy="5616720"/>
        </p:xfrm>
        <a:graphic>
          <a:graphicData uri="http://schemas.openxmlformats.org/drawingml/2006/table">
            <a:tbl>
              <a:tblPr/>
              <a:tblGrid>
                <a:gridCol w="249120"/>
                <a:gridCol w="249480"/>
                <a:gridCol w="249120"/>
                <a:gridCol w="250920"/>
                <a:gridCol w="249120"/>
                <a:gridCol w="249120"/>
                <a:gridCol w="249480"/>
                <a:gridCol w="249120"/>
                <a:gridCol w="249120"/>
                <a:gridCol w="250920"/>
                <a:gridCol w="249120"/>
                <a:gridCol w="249480"/>
                <a:gridCol w="249120"/>
                <a:gridCol w="249120"/>
                <a:gridCol w="249480"/>
                <a:gridCol w="247680"/>
                <a:gridCol w="249120"/>
                <a:gridCol w="249120"/>
                <a:gridCol w="249120"/>
                <a:gridCol w="249480"/>
                <a:gridCol w="247680"/>
                <a:gridCol w="249120"/>
                <a:gridCol w="249120"/>
                <a:gridCol w="249480"/>
                <a:gridCol w="249120"/>
                <a:gridCol w="249120"/>
                <a:gridCol w="247680"/>
                <a:gridCol w="249480"/>
                <a:gridCol w="249120"/>
                <a:gridCol w="249120"/>
                <a:gridCol w="249480"/>
                <a:gridCol w="244440"/>
                <a:gridCol w="249120"/>
              </a:tblGrid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17136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16956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17136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1713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1713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1695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1713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1713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1713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1699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</a:tbl>
          </a:graphicData>
        </a:graphic>
      </p:graphicFrame>
      <p:sp>
        <p:nvSpPr>
          <p:cNvPr id="245" name="AutoShape 13"/>
          <p:cNvSpPr/>
          <p:nvPr/>
        </p:nvSpPr>
        <p:spPr>
          <a:xfrm>
            <a:off x="8325000" y="115920"/>
            <a:ext cx="722160" cy="576360"/>
          </a:xfrm>
          <a:custGeom>
            <a:avLst/>
            <a:gdLst>
              <a:gd name="textAreaLeft" fmla="*/ 164880 w 722160"/>
              <a:gd name="textAreaRight" fmla="*/ 557280 w 7221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08000" y="2133720"/>
          <a:ext cx="8856720" cy="325440"/>
        </p:xfrm>
        <a:graphic>
          <a:graphicData uri="http://schemas.openxmlformats.org/drawingml/2006/table">
            <a:tbl>
              <a:tblPr/>
              <a:tblGrid>
                <a:gridCol w="495360"/>
                <a:gridCol w="250560"/>
                <a:gridCol w="249480"/>
                <a:gridCol w="250560"/>
                <a:gridCol w="249480"/>
                <a:gridCol w="250920"/>
                <a:gridCol w="249120"/>
                <a:gridCol w="250920"/>
                <a:gridCol w="249120"/>
                <a:gridCol w="250920"/>
                <a:gridCol w="249120"/>
                <a:gridCol w="250920"/>
                <a:gridCol w="249120"/>
                <a:gridCol w="250920"/>
                <a:gridCol w="249120"/>
                <a:gridCol w="250920"/>
                <a:gridCol w="249120"/>
                <a:gridCol w="250920"/>
                <a:gridCol w="249120"/>
                <a:gridCol w="250920"/>
                <a:gridCol w="249120"/>
                <a:gridCol w="250920"/>
                <a:gridCol w="249120"/>
                <a:gridCol w="249480"/>
                <a:gridCol w="250560"/>
                <a:gridCol w="262080"/>
                <a:gridCol w="262080"/>
                <a:gridCol w="250560"/>
                <a:gridCol w="249480"/>
                <a:gridCol w="250560"/>
                <a:gridCol w="249480"/>
                <a:gridCol w="264960"/>
                <a:gridCol w="250920"/>
                <a:gridCol w="320760"/>
              </a:tblGrid>
              <a:tr h="1630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ук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</a:tr>
              <a:tr h="1630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00080" y="2917800"/>
          <a:ext cx="8856720" cy="325440"/>
        </p:xfrm>
        <a:graphic>
          <a:graphicData uri="http://schemas.openxmlformats.org/drawingml/2006/table">
            <a:tbl>
              <a:tblPr/>
              <a:tblGrid>
                <a:gridCol w="404640"/>
                <a:gridCol w="257400"/>
                <a:gridCol w="255600"/>
                <a:gridCol w="255600"/>
                <a:gridCol w="257040"/>
                <a:gridCol w="255600"/>
                <a:gridCol w="255600"/>
                <a:gridCol w="257040"/>
                <a:gridCol w="255600"/>
                <a:gridCol w="255600"/>
                <a:gridCol w="257400"/>
                <a:gridCol w="217440"/>
                <a:gridCol w="293760"/>
                <a:gridCol w="257040"/>
                <a:gridCol w="255600"/>
                <a:gridCol w="255600"/>
                <a:gridCol w="257040"/>
                <a:gridCol w="255600"/>
                <a:gridCol w="255600"/>
                <a:gridCol w="257400"/>
                <a:gridCol w="255240"/>
                <a:gridCol w="255600"/>
                <a:gridCol w="255600"/>
                <a:gridCol w="257400"/>
                <a:gridCol w="255600"/>
                <a:gridCol w="255600"/>
                <a:gridCol w="257040"/>
                <a:gridCol w="255600"/>
                <a:gridCol w="255600"/>
                <a:gridCol w="257040"/>
                <a:gridCol w="255600"/>
                <a:gridCol w="255600"/>
                <a:gridCol w="257400"/>
                <a:gridCol w="255600"/>
              </a:tblGrid>
              <a:tr h="16308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</a:tr>
              <a:tr h="16308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Э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Ъ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Щ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Ш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Ц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Ф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П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З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Ж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Б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40d26"/>
                          </a:solidFill>
                          <a:latin typeface="Arial"/>
                        </a:rPr>
                        <a:t>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</a:tbl>
          </a:graphicData>
        </a:graphic>
      </p:graphicFrame>
      <p:sp>
        <p:nvSpPr>
          <p:cNvPr id="248" name="Rectangle 1"/>
          <p:cNvSpPr/>
          <p:nvPr/>
        </p:nvSpPr>
        <p:spPr>
          <a:xfrm>
            <a:off x="253080" y="5641920"/>
            <a:ext cx="20368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Шифр ВИЖИНЕ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Y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= X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+ K</a:t>
            </a:r>
            <a:r>
              <a:rPr b="1" lang="en-US" sz="16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(mod 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Рисунок 9" descr=" Механизм шифрования многоалфавитной заменой"/>
          <p:cNvPicPr/>
          <p:nvPr/>
        </p:nvPicPr>
        <p:blipFill>
          <a:blip r:embed="rId1"/>
          <a:stretch/>
        </p:blipFill>
        <p:spPr>
          <a:xfrm>
            <a:off x="2700360" y="3429000"/>
            <a:ext cx="5908680" cy="266400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13"/>
          <p:cNvSpPr/>
          <p:nvPr/>
        </p:nvSpPr>
        <p:spPr>
          <a:xfrm>
            <a:off x="8391600" y="404640"/>
            <a:ext cx="722160" cy="576360"/>
          </a:xfrm>
          <a:custGeom>
            <a:avLst/>
            <a:gdLst>
              <a:gd name="textAreaLeft" fmla="*/ 164880 w 722160"/>
              <a:gd name="textAreaRight" fmla="*/ 557280 w 7221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912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ы Гаммирован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2916360" y="1302120"/>
            <a:ext cx="32050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 = x + k (mod N)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3"/>
          <p:cNvSpPr/>
          <p:nvPr/>
        </p:nvSpPr>
        <p:spPr>
          <a:xfrm>
            <a:off x="8391600" y="404640"/>
            <a:ext cx="722160" cy="576360"/>
          </a:xfrm>
          <a:custGeom>
            <a:avLst/>
            <a:gdLst>
              <a:gd name="textAreaLeft" fmla="*/ 164880 w 722160"/>
              <a:gd name="textAreaRight" fmla="*/ 557280 w 7221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0 \oplus 0 = 0\\&#13;&#10;0 \oplus 1 = 1\\&#13;&#10;1 \oplus 0 = 1\\&#13;&#10;1 \oplus 1 = 0\\&#13;&#10;"/>
          <p:cNvPicPr/>
          <p:nvPr/>
        </p:nvPicPr>
        <p:blipFill>
          <a:blip r:embed="rId1"/>
          <a:stretch/>
        </p:blipFill>
        <p:spPr>
          <a:xfrm>
            <a:off x="2695680" y="373068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z = x + k (mod 2) = x \oplus k."/>
          <p:cNvPicPr/>
          <p:nvPr/>
        </p:nvPicPr>
        <p:blipFill>
          <a:blip r:embed="rId2"/>
          <a:stretch/>
        </p:blipFill>
        <p:spPr>
          <a:xfrm>
            <a:off x="2048040" y="1962000"/>
            <a:ext cx="4103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912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ы перестанов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3"/>
          <p:cNvSpPr/>
          <p:nvPr/>
        </p:nvSpPr>
        <p:spPr>
          <a:xfrm>
            <a:off x="8244000" y="614520"/>
            <a:ext cx="722160" cy="576000"/>
          </a:xfrm>
          <a:custGeom>
            <a:avLst/>
            <a:gdLst>
              <a:gd name="textAreaLeft" fmla="*/ 164880 w 722160"/>
              <a:gd name="textAreaRight" fmla="*/ 557280 w 722160"/>
              <a:gd name="textAreaTop" fmla="*/ 131400 h 576000"/>
              <a:gd name="textAreaBottom" fmla="*/ 444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700280"/>
          <a:ext cx="8569080" cy="3960720"/>
        </p:xfrm>
        <a:graphic>
          <a:graphicData uri="http://schemas.openxmlformats.org/drawingml/2006/table">
            <a:tbl>
              <a:tblPr/>
              <a:tblGrid>
                <a:gridCol w="2141280"/>
                <a:gridCol w="2143440"/>
                <a:gridCol w="2141280"/>
                <a:gridCol w="2143080"/>
              </a:tblGrid>
              <a:tr h="439560">
                <a:tc gridSpan="4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ифрование методом перестановки по табл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 gridSpan="4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б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36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560">
                <a:tc gridSpan="4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б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36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Рисунок 3" descr=""/>
          <p:cNvPicPr/>
          <p:nvPr/>
        </p:nvPicPr>
        <p:blipFill>
          <a:blip r:embed="rId1"/>
          <a:srcRect l="22951" t="26355" r="17114" b="46660"/>
          <a:stretch/>
        </p:blipFill>
        <p:spPr>
          <a:xfrm>
            <a:off x="1044720" y="404640"/>
            <a:ext cx="7561080" cy="29530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3"/>
          <p:cNvSpPr/>
          <p:nvPr/>
        </p:nvSpPr>
        <p:spPr>
          <a:xfrm>
            <a:off x="8244000" y="260280"/>
            <a:ext cx="722160" cy="576360"/>
          </a:xfrm>
          <a:custGeom>
            <a:avLst/>
            <a:gdLst>
              <a:gd name="textAreaLeft" fmla="*/ 164880 w 722160"/>
              <a:gd name="textAreaRight" fmla="*/ 557280 w 7221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" descr=" Аппаратный блок перестановки"/>
          <p:cNvPicPr/>
          <p:nvPr/>
        </p:nvPicPr>
        <p:blipFill>
          <a:blip r:embed="rId2"/>
          <a:stretch/>
        </p:blipFill>
        <p:spPr>
          <a:xfrm>
            <a:off x="2340000" y="3500280"/>
            <a:ext cx="4464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труктура алгоритма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Рисунок 1" descr=" Общая структура секретной системы, использующей симметричное шифрование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424980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13"/>
          <p:cNvSpPr/>
          <p:nvPr/>
        </p:nvSpPr>
        <p:spPr>
          <a:xfrm>
            <a:off x="8326440" y="469800"/>
            <a:ext cx="720720" cy="576360"/>
          </a:xfrm>
          <a:custGeom>
            <a:avLst/>
            <a:gdLst>
              <a:gd name="textAreaLeft" fmla="*/ 164520 w 720720"/>
              <a:gd name="textAreaRight" fmla="*/ 556200 w 72072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Классификация методов шифрования с ЗК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Рисунок 2" descr=" Методы шифрования с закрытым ключом"/>
          <p:cNvPicPr/>
          <p:nvPr/>
        </p:nvPicPr>
        <p:blipFill>
          <a:blip r:embed="rId1"/>
          <a:stretch/>
        </p:blipFill>
        <p:spPr>
          <a:xfrm>
            <a:off x="539640" y="1773360"/>
            <a:ext cx="8136000" cy="424800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13"/>
          <p:cNvSpPr/>
          <p:nvPr/>
        </p:nvSpPr>
        <p:spPr>
          <a:xfrm>
            <a:off x="8326440" y="469800"/>
            <a:ext cx="720720" cy="576360"/>
          </a:xfrm>
          <a:custGeom>
            <a:avLst/>
            <a:gdLst>
              <a:gd name="textAreaLeft" fmla="*/ 164520 w 720720"/>
              <a:gd name="textAreaRight" fmla="*/ 556200 w 72072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Одноалфавитная замен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Рисунок 5" descr=" Пример таблицы замен для двух шифров"/>
          <p:cNvPicPr/>
          <p:nvPr/>
        </p:nvPicPr>
        <p:blipFill>
          <a:blip r:embed="rId1"/>
          <a:stretch/>
        </p:blipFill>
        <p:spPr>
          <a:xfrm>
            <a:off x="324000" y="1844640"/>
            <a:ext cx="8424720" cy="410544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13"/>
          <p:cNvSpPr/>
          <p:nvPr/>
        </p:nvSpPr>
        <p:spPr>
          <a:xfrm>
            <a:off x="8326440" y="469800"/>
            <a:ext cx="720720" cy="576360"/>
          </a:xfrm>
          <a:custGeom>
            <a:avLst/>
            <a:gdLst>
              <a:gd name="textAreaLeft" fmla="*/ 164520 w 720720"/>
              <a:gd name="textAreaRight" fmla="*/ 556200 w 72072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Пример моноалфавитной подстановк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50920" y="1916280"/>
            <a:ext cx="4897440" cy="58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ЫШЛИТЕ ПОДКРЕПЛЕНИЕ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Рисунок 6" descr=" Пример шифрования методом прямой замены"/>
          <p:cNvPicPr/>
          <p:nvPr/>
        </p:nvPicPr>
        <p:blipFill>
          <a:blip r:embed="rId1"/>
          <a:stretch/>
        </p:blipFill>
        <p:spPr>
          <a:xfrm>
            <a:off x="468360" y="2421000"/>
            <a:ext cx="8351640" cy="35290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3"/>
          <p:cNvSpPr/>
          <p:nvPr/>
        </p:nvSpPr>
        <p:spPr>
          <a:xfrm>
            <a:off x="8326440" y="469800"/>
            <a:ext cx="720720" cy="576360"/>
          </a:xfrm>
          <a:custGeom>
            <a:avLst/>
            <a:gdLst>
              <a:gd name="textAreaLeft" fmla="*/ 164520 w 720720"/>
              <a:gd name="textAreaRight" fmla="*/ 556200 w 72072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http://dmee.ru/tw_files2/urls_1/7/d-6794/img10.jpg"/>
          <p:cNvPicPr/>
          <p:nvPr/>
        </p:nvPicPr>
        <p:blipFill>
          <a:blip r:embed="rId1"/>
          <a:stretch/>
        </p:blipFill>
        <p:spPr>
          <a:xfrm>
            <a:off x="755640" y="765000"/>
            <a:ext cx="7620120" cy="53280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3"/>
          <p:cNvSpPr/>
          <p:nvPr/>
        </p:nvSpPr>
        <p:spPr>
          <a:xfrm>
            <a:off x="8326440" y="469800"/>
            <a:ext cx="720720" cy="576360"/>
          </a:xfrm>
          <a:custGeom>
            <a:avLst/>
            <a:gdLst>
              <a:gd name="textAreaLeft" fmla="*/ 164520 w 720720"/>
              <a:gd name="textAreaRight" fmla="*/ 556200 w 72072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2556000" y="555840"/>
            <a:ext cx="352872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ТНФЖ.ИПЩЪРЪ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8326440" y="469800"/>
            <a:ext cx="720720" cy="576360"/>
          </a:xfrm>
          <a:custGeom>
            <a:avLst/>
            <a:gdLst>
              <a:gd name="textAreaLeft" fmla="*/ 164520 w 720720"/>
              <a:gd name="textAreaRight" fmla="*/ 556200 w 72072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Рисунок 6" descr=""/>
          <p:cNvPicPr/>
          <p:nvPr/>
        </p:nvPicPr>
        <p:blipFill>
          <a:blip r:embed="rId1"/>
          <a:srcRect l="16179" t="31675" r="50528" b="13211"/>
          <a:stretch/>
        </p:blipFill>
        <p:spPr>
          <a:xfrm>
            <a:off x="179280" y="2060640"/>
            <a:ext cx="4392720" cy="388944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7" descr=""/>
          <p:cNvPicPr/>
          <p:nvPr/>
        </p:nvPicPr>
        <p:blipFill>
          <a:blip r:embed="rId2"/>
          <a:srcRect l="4063" t="39657" r="46612" b="13337"/>
          <a:stretch/>
        </p:blipFill>
        <p:spPr>
          <a:xfrm>
            <a:off x="4788000" y="2060640"/>
            <a:ext cx="42591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13"/>
          <p:cNvSpPr/>
          <p:nvPr/>
        </p:nvSpPr>
        <p:spPr>
          <a:xfrm>
            <a:off x="8326440" y="469800"/>
            <a:ext cx="720720" cy="576360"/>
          </a:xfrm>
          <a:custGeom>
            <a:avLst/>
            <a:gdLst>
              <a:gd name="textAreaLeft" fmla="*/ 164520 w 720720"/>
              <a:gd name="textAreaRight" fmla="*/ 556200 w 72072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Рисунок 4" descr=""/>
          <p:cNvPicPr/>
          <p:nvPr/>
        </p:nvPicPr>
        <p:blipFill>
          <a:blip r:embed="rId1"/>
          <a:srcRect l="16041" t="31675" r="34699" b="25627"/>
          <a:stretch/>
        </p:blipFill>
        <p:spPr>
          <a:xfrm>
            <a:off x="250920" y="1916280"/>
            <a:ext cx="4321080" cy="41050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5" descr=""/>
          <p:cNvPicPr/>
          <p:nvPr/>
        </p:nvPicPr>
        <p:blipFill>
          <a:blip r:embed="rId2"/>
          <a:srcRect l="16250" t="33449" r="30876" b="24364"/>
          <a:stretch/>
        </p:blipFill>
        <p:spPr>
          <a:xfrm>
            <a:off x="4716360" y="1916280"/>
            <a:ext cx="4330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порциональные шифры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8326440" y="270000"/>
            <a:ext cx="720720" cy="576000"/>
          </a:xfrm>
          <a:custGeom>
            <a:avLst/>
            <a:gdLst>
              <a:gd name="textAreaLeft" fmla="*/ 164520 w 720720"/>
              <a:gd name="textAreaRight" fmla="*/ 556200 w 720720"/>
              <a:gd name="textAreaTop" fmla="*/ 131400 h 576000"/>
              <a:gd name="textAreaBottom" fmla="*/ 444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7" descr=""/>
          <p:cNvPicPr/>
          <p:nvPr/>
        </p:nvPicPr>
        <p:blipFill>
          <a:blip r:embed="rId1"/>
          <a:srcRect l="27530" t="36490" r="22382" b="18859"/>
          <a:stretch/>
        </p:blipFill>
        <p:spPr>
          <a:xfrm>
            <a:off x="457200" y="846000"/>
            <a:ext cx="8362800" cy="46706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4572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  <a:ea typeface="Arial"/>
              </a:rPr>
              <a:t>БОЛЬШОЙ СЕКРЕТ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  <a:ea typeface="Arial"/>
              </a:rPr>
              <a:t>10175713256210321376275180076175413413075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вченков Александр</cp:lastModifiedBy>
  <dcterms:modified xsi:type="dcterms:W3CDTF">2022-10-17T12:22:23Z</dcterms:modified>
  <cp:revision>32</cp:revision>
  <dc:subject/>
  <dc:title>PowerPoint Presentation</dc:title>
</cp:coreProperties>
</file>